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439-A429-419E-A0E4-CFC02527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118-8E55-41F3-9944-BF408F2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A95-F11C-4426-8432-7A3E7D4D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E9E-D60B-48BF-8662-75E38319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9AE-A5E5-4AE4-B451-142F4EDF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EC1A-E49A-4DB0-81F7-AD4072E1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B2E-A6D9-4B59-8E95-9DC099FF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687-95DD-4C59-B852-7C00D6A7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247-3496-4C60-9293-CAB48E9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821-3F6C-431A-8122-C3188E0B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2B8-5250-4BA1-876E-36FD1350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9B4-A43E-4F66-AC48-7948D3AB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7D99-7901-4930-83E8-5B877BDDD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9528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atives &amp; Superl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Win7\AppData\Local\Microsoft\Windows\Temporary Internet Files\Content.IE5\NBYJUP9X\MC900435278[1].wmf"/>
          <p:cNvPicPr/>
          <p:nvPr/>
        </p:nvPicPr>
        <p:blipFill>
          <a:blip r:embed="rId1"/>
          <a:stretch/>
        </p:blipFill>
        <p:spPr>
          <a:xfrm>
            <a:off x="2700360" y="3141720"/>
            <a:ext cx="35272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539640" y="2205000"/>
            <a:ext cx="1968480" cy="1825560"/>
            <a:chOff x="539640" y="2205000"/>
            <a:chExt cx="1968480" cy="1825560"/>
          </a:xfrm>
        </p:grpSpPr>
        <p:sp>
          <p:nvSpPr>
            <p:cNvPr id="149" name="Freeform 3"/>
            <p:cNvSpPr/>
            <p:nvPr/>
          </p:nvSpPr>
          <p:spPr>
            <a:xfrm>
              <a:off x="539640" y="2205000"/>
              <a:ext cx="1968480" cy="18255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0" y="1417"/>
                  </a:lnTo>
                  <a:lnTo>
                    <a:pt x="5" y="1533"/>
                  </a:lnTo>
                  <a:lnTo>
                    <a:pt x="20" y="1647"/>
                  </a:lnTo>
                  <a:lnTo>
                    <a:pt x="44" y="1758"/>
                  </a:lnTo>
                  <a:lnTo>
                    <a:pt x="78" y="1865"/>
                  </a:lnTo>
                  <a:lnTo>
                    <a:pt x="120" y="1969"/>
                  </a:lnTo>
                  <a:lnTo>
                    <a:pt x="170" y="2068"/>
                  </a:lnTo>
                  <a:lnTo>
                    <a:pt x="229" y="2164"/>
                  </a:lnTo>
                  <a:lnTo>
                    <a:pt x="295" y="2254"/>
                  </a:lnTo>
                  <a:lnTo>
                    <a:pt x="368" y="2339"/>
                  </a:lnTo>
                  <a:lnTo>
                    <a:pt x="448" y="2419"/>
                  </a:lnTo>
                  <a:lnTo>
                    <a:pt x="534" y="2493"/>
                  </a:lnTo>
                  <a:lnTo>
                    <a:pt x="626" y="2561"/>
                  </a:lnTo>
                  <a:lnTo>
                    <a:pt x="724" y="2622"/>
                  </a:lnTo>
                  <a:lnTo>
                    <a:pt x="827" y="2676"/>
                  </a:lnTo>
                  <a:lnTo>
                    <a:pt x="934" y="2723"/>
                  </a:lnTo>
                  <a:lnTo>
                    <a:pt x="1047" y="2762"/>
                  </a:lnTo>
                  <a:lnTo>
                    <a:pt x="1162" y="2793"/>
                  </a:lnTo>
                  <a:lnTo>
                    <a:pt x="1282" y="2816"/>
                  </a:lnTo>
                  <a:lnTo>
                    <a:pt x="1405" y="2830"/>
                  </a:lnTo>
                  <a:lnTo>
                    <a:pt x="1530" y="2834"/>
                  </a:lnTo>
                  <a:lnTo>
                    <a:pt x="1656" y="2830"/>
                  </a:lnTo>
                  <a:lnTo>
                    <a:pt x="1779" y="2816"/>
                  </a:lnTo>
                  <a:lnTo>
                    <a:pt x="1898" y="2793"/>
                  </a:lnTo>
                  <a:lnTo>
                    <a:pt x="2014" y="2762"/>
                  </a:lnTo>
                  <a:lnTo>
                    <a:pt x="2126" y="2723"/>
                  </a:lnTo>
                  <a:lnTo>
                    <a:pt x="2234" y="2676"/>
                  </a:lnTo>
                  <a:lnTo>
                    <a:pt x="2337" y="2622"/>
                  </a:lnTo>
                  <a:lnTo>
                    <a:pt x="2434" y="2561"/>
                  </a:lnTo>
                  <a:lnTo>
                    <a:pt x="2527" y="2493"/>
                  </a:lnTo>
                  <a:lnTo>
                    <a:pt x="2613" y="2419"/>
                  </a:lnTo>
                  <a:lnTo>
                    <a:pt x="2693" y="2339"/>
                  </a:lnTo>
                  <a:lnTo>
                    <a:pt x="2766" y="2254"/>
                  </a:lnTo>
                  <a:lnTo>
                    <a:pt x="2832" y="2164"/>
                  </a:lnTo>
                  <a:lnTo>
                    <a:pt x="2890" y="2068"/>
                  </a:lnTo>
                  <a:lnTo>
                    <a:pt x="2941" y="1969"/>
                  </a:lnTo>
                  <a:lnTo>
                    <a:pt x="2983" y="1865"/>
                  </a:lnTo>
                  <a:lnTo>
                    <a:pt x="3017" y="1758"/>
                  </a:lnTo>
                  <a:lnTo>
                    <a:pt x="3041" y="1647"/>
                  </a:lnTo>
                  <a:lnTo>
                    <a:pt x="3056" y="1533"/>
                  </a:lnTo>
                  <a:lnTo>
                    <a:pt x="3061" y="1417"/>
                  </a:lnTo>
                  <a:lnTo>
                    <a:pt x="3056" y="1301"/>
                  </a:lnTo>
                  <a:lnTo>
                    <a:pt x="3041" y="1187"/>
                  </a:lnTo>
                  <a:lnTo>
                    <a:pt x="3017" y="1076"/>
                  </a:lnTo>
                  <a:lnTo>
                    <a:pt x="2983" y="969"/>
                  </a:lnTo>
                  <a:lnTo>
                    <a:pt x="2941" y="865"/>
                  </a:lnTo>
                  <a:lnTo>
                    <a:pt x="2890" y="766"/>
                  </a:lnTo>
                  <a:lnTo>
                    <a:pt x="2832" y="670"/>
                  </a:lnTo>
                  <a:lnTo>
                    <a:pt x="2766" y="580"/>
                  </a:lnTo>
                  <a:lnTo>
                    <a:pt x="2693" y="494"/>
                  </a:lnTo>
                  <a:lnTo>
                    <a:pt x="2613" y="415"/>
                  </a:lnTo>
                  <a:lnTo>
                    <a:pt x="2527" y="341"/>
                  </a:lnTo>
                  <a:lnTo>
                    <a:pt x="2434" y="273"/>
                  </a:lnTo>
                  <a:lnTo>
                    <a:pt x="2337" y="212"/>
                  </a:lnTo>
                  <a:lnTo>
                    <a:pt x="2234" y="158"/>
                  </a:lnTo>
                  <a:lnTo>
                    <a:pt x="2126" y="111"/>
                  </a:lnTo>
                  <a:lnTo>
                    <a:pt x="2014" y="72"/>
                  </a:lnTo>
                  <a:lnTo>
                    <a:pt x="1898" y="41"/>
                  </a:lnTo>
                  <a:lnTo>
                    <a:pt x="1779" y="18"/>
                  </a:lnTo>
                  <a:lnTo>
                    <a:pt x="1656" y="4"/>
                  </a:lnTo>
                  <a:lnTo>
                    <a:pt x="1530" y="0"/>
                  </a:lnTo>
                  <a:lnTo>
                    <a:pt x="1405" y="4"/>
                  </a:lnTo>
                  <a:lnTo>
                    <a:pt x="1282" y="18"/>
                  </a:lnTo>
                  <a:lnTo>
                    <a:pt x="1162" y="41"/>
                  </a:lnTo>
                  <a:lnTo>
                    <a:pt x="1047" y="72"/>
                  </a:lnTo>
                  <a:lnTo>
                    <a:pt x="934" y="111"/>
                  </a:lnTo>
                  <a:lnTo>
                    <a:pt x="827" y="158"/>
                  </a:lnTo>
                  <a:lnTo>
                    <a:pt x="724" y="212"/>
                  </a:lnTo>
                  <a:lnTo>
                    <a:pt x="626" y="273"/>
                  </a:lnTo>
                  <a:lnTo>
                    <a:pt x="534" y="341"/>
                  </a:lnTo>
                  <a:lnTo>
                    <a:pt x="448" y="415"/>
                  </a:lnTo>
                  <a:lnTo>
                    <a:pt x="368" y="494"/>
                  </a:lnTo>
                  <a:lnTo>
                    <a:pt x="295" y="580"/>
                  </a:lnTo>
                  <a:lnTo>
                    <a:pt x="229" y="670"/>
                  </a:lnTo>
                  <a:lnTo>
                    <a:pt x="170" y="766"/>
                  </a:lnTo>
                  <a:lnTo>
                    <a:pt x="120" y="865"/>
                  </a:lnTo>
                  <a:lnTo>
                    <a:pt x="78" y="969"/>
                  </a:lnTo>
                  <a:lnTo>
                    <a:pt x="44" y="1076"/>
                  </a:lnTo>
                  <a:lnTo>
                    <a:pt x="20" y="1187"/>
                  </a:lnTo>
                  <a:lnTo>
                    <a:pt x="5" y="1301"/>
                  </a:lnTo>
                  <a:lnTo>
                    <a:pt x="0" y="1417"/>
                  </a:lnTo>
                  <a:close/>
                </a:path>
              </a:pathLst>
            </a:custGeom>
            <a:solidFill>
              <a:srgbClr val="fe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"/>
            <p:cNvSpPr/>
            <p:nvPr/>
          </p:nvSpPr>
          <p:spPr>
            <a:xfrm>
              <a:off x="1105920" y="2749680"/>
              <a:ext cx="204840" cy="189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"/>
            <p:cNvSpPr/>
            <p:nvPr/>
          </p:nvSpPr>
          <p:spPr>
            <a:xfrm>
              <a:off x="1736640" y="2749680"/>
              <a:ext cx="204840" cy="189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>
              <a:off x="1105920" y="2749680"/>
              <a:ext cx="204840" cy="189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>
              <a:off x="1736640" y="2749680"/>
              <a:ext cx="204840" cy="1897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990000" y="3556080"/>
              <a:ext cx="1065960" cy="889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658" h="138">
                  <a:moveTo>
                    <a:pt x="0" y="0"/>
                  </a:moveTo>
                  <a:lnTo>
                    <a:pt x="82" y="26"/>
                  </a:lnTo>
                  <a:lnTo>
                    <a:pt x="165" y="49"/>
                  </a:lnTo>
                  <a:lnTo>
                    <a:pt x="248" y="70"/>
                  </a:lnTo>
                  <a:lnTo>
                    <a:pt x="331" y="88"/>
                  </a:lnTo>
                  <a:lnTo>
                    <a:pt x="414" y="103"/>
                  </a:lnTo>
                  <a:lnTo>
                    <a:pt x="497" y="115"/>
                  </a:lnTo>
                  <a:lnTo>
                    <a:pt x="580" y="125"/>
                  </a:lnTo>
                  <a:lnTo>
                    <a:pt x="663" y="132"/>
                  </a:lnTo>
                  <a:lnTo>
                    <a:pt x="746" y="136"/>
                  </a:lnTo>
                  <a:lnTo>
                    <a:pt x="829" y="137"/>
                  </a:lnTo>
                  <a:lnTo>
                    <a:pt x="912" y="136"/>
                  </a:lnTo>
                  <a:lnTo>
                    <a:pt x="994" y="132"/>
                  </a:lnTo>
                  <a:lnTo>
                    <a:pt x="1077" y="125"/>
                  </a:lnTo>
                  <a:lnTo>
                    <a:pt x="1160" y="115"/>
                  </a:lnTo>
                  <a:lnTo>
                    <a:pt x="1243" y="103"/>
                  </a:lnTo>
                  <a:lnTo>
                    <a:pt x="1326" y="88"/>
                  </a:lnTo>
                  <a:lnTo>
                    <a:pt x="1409" y="70"/>
                  </a:lnTo>
                  <a:lnTo>
                    <a:pt x="1491" y="49"/>
                  </a:lnTo>
                  <a:lnTo>
                    <a:pt x="1574" y="26"/>
                  </a:lnTo>
                  <a:lnTo>
                    <a:pt x="165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539640" y="2205000"/>
              <a:ext cx="1968480" cy="18255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5" y="1301"/>
                  </a:lnTo>
                  <a:lnTo>
                    <a:pt x="20" y="1187"/>
                  </a:lnTo>
                  <a:lnTo>
                    <a:pt x="44" y="1076"/>
                  </a:lnTo>
                  <a:lnTo>
                    <a:pt x="78" y="969"/>
                  </a:lnTo>
                  <a:lnTo>
                    <a:pt x="120" y="865"/>
                  </a:lnTo>
                  <a:lnTo>
                    <a:pt x="170" y="766"/>
                  </a:lnTo>
                  <a:lnTo>
                    <a:pt x="229" y="670"/>
                  </a:lnTo>
                  <a:lnTo>
                    <a:pt x="295" y="580"/>
                  </a:lnTo>
                  <a:lnTo>
                    <a:pt x="368" y="494"/>
                  </a:lnTo>
                  <a:lnTo>
                    <a:pt x="448" y="415"/>
                  </a:lnTo>
                  <a:lnTo>
                    <a:pt x="534" y="341"/>
                  </a:lnTo>
                  <a:lnTo>
                    <a:pt x="626" y="273"/>
                  </a:lnTo>
                  <a:lnTo>
                    <a:pt x="724" y="212"/>
                  </a:lnTo>
                  <a:lnTo>
                    <a:pt x="827" y="158"/>
                  </a:lnTo>
                  <a:lnTo>
                    <a:pt x="934" y="111"/>
                  </a:lnTo>
                  <a:lnTo>
                    <a:pt x="1047" y="72"/>
                  </a:lnTo>
                  <a:lnTo>
                    <a:pt x="1162" y="41"/>
                  </a:lnTo>
                  <a:lnTo>
                    <a:pt x="1282" y="18"/>
                  </a:lnTo>
                  <a:lnTo>
                    <a:pt x="1405" y="4"/>
                  </a:lnTo>
                  <a:lnTo>
                    <a:pt x="1530" y="0"/>
                  </a:lnTo>
                  <a:lnTo>
                    <a:pt x="1656" y="4"/>
                  </a:lnTo>
                  <a:lnTo>
                    <a:pt x="1779" y="18"/>
                  </a:lnTo>
                  <a:lnTo>
                    <a:pt x="1898" y="41"/>
                  </a:lnTo>
                  <a:lnTo>
                    <a:pt x="2014" y="72"/>
                  </a:lnTo>
                  <a:lnTo>
                    <a:pt x="2126" y="111"/>
                  </a:lnTo>
                  <a:lnTo>
                    <a:pt x="2234" y="158"/>
                  </a:lnTo>
                  <a:lnTo>
                    <a:pt x="2337" y="212"/>
                  </a:lnTo>
                  <a:lnTo>
                    <a:pt x="2434" y="273"/>
                  </a:lnTo>
                  <a:lnTo>
                    <a:pt x="2527" y="341"/>
                  </a:lnTo>
                  <a:lnTo>
                    <a:pt x="2613" y="415"/>
                  </a:lnTo>
                  <a:lnTo>
                    <a:pt x="2693" y="494"/>
                  </a:lnTo>
                  <a:lnTo>
                    <a:pt x="2766" y="580"/>
                  </a:lnTo>
                  <a:lnTo>
                    <a:pt x="2832" y="670"/>
                  </a:lnTo>
                  <a:lnTo>
                    <a:pt x="2890" y="766"/>
                  </a:lnTo>
                  <a:lnTo>
                    <a:pt x="2941" y="865"/>
                  </a:lnTo>
                  <a:lnTo>
                    <a:pt x="2983" y="969"/>
                  </a:lnTo>
                  <a:lnTo>
                    <a:pt x="3017" y="1076"/>
                  </a:lnTo>
                  <a:lnTo>
                    <a:pt x="3041" y="1187"/>
                  </a:lnTo>
                  <a:lnTo>
                    <a:pt x="3056" y="1301"/>
                  </a:lnTo>
                  <a:lnTo>
                    <a:pt x="3061" y="1417"/>
                  </a:lnTo>
                  <a:lnTo>
                    <a:pt x="3056" y="1533"/>
                  </a:lnTo>
                  <a:lnTo>
                    <a:pt x="3041" y="1647"/>
                  </a:lnTo>
                  <a:lnTo>
                    <a:pt x="3017" y="1758"/>
                  </a:lnTo>
                  <a:lnTo>
                    <a:pt x="2983" y="1865"/>
                  </a:lnTo>
                  <a:lnTo>
                    <a:pt x="2941" y="1969"/>
                  </a:lnTo>
                  <a:lnTo>
                    <a:pt x="2890" y="2068"/>
                  </a:lnTo>
                  <a:lnTo>
                    <a:pt x="2832" y="2164"/>
                  </a:lnTo>
                  <a:lnTo>
                    <a:pt x="2766" y="2254"/>
                  </a:lnTo>
                  <a:lnTo>
                    <a:pt x="2693" y="2339"/>
                  </a:lnTo>
                  <a:lnTo>
                    <a:pt x="2613" y="2419"/>
                  </a:lnTo>
                  <a:lnTo>
                    <a:pt x="2527" y="2493"/>
                  </a:lnTo>
                  <a:lnTo>
                    <a:pt x="2434" y="2561"/>
                  </a:lnTo>
                  <a:lnTo>
                    <a:pt x="2337" y="2622"/>
                  </a:lnTo>
                  <a:lnTo>
                    <a:pt x="2234" y="2676"/>
                  </a:lnTo>
                  <a:lnTo>
                    <a:pt x="2126" y="2723"/>
                  </a:lnTo>
                  <a:lnTo>
                    <a:pt x="2014" y="2762"/>
                  </a:lnTo>
                  <a:lnTo>
                    <a:pt x="1898" y="2793"/>
                  </a:lnTo>
                  <a:lnTo>
                    <a:pt x="1779" y="2816"/>
                  </a:lnTo>
                  <a:lnTo>
                    <a:pt x="1656" y="2830"/>
                  </a:lnTo>
                  <a:lnTo>
                    <a:pt x="1530" y="2834"/>
                  </a:lnTo>
                  <a:lnTo>
                    <a:pt x="1405" y="2830"/>
                  </a:lnTo>
                  <a:lnTo>
                    <a:pt x="1282" y="2816"/>
                  </a:lnTo>
                  <a:lnTo>
                    <a:pt x="1162" y="2793"/>
                  </a:lnTo>
                  <a:lnTo>
                    <a:pt x="1047" y="2762"/>
                  </a:lnTo>
                  <a:lnTo>
                    <a:pt x="934" y="2723"/>
                  </a:lnTo>
                  <a:lnTo>
                    <a:pt x="827" y="2676"/>
                  </a:lnTo>
                  <a:lnTo>
                    <a:pt x="724" y="2622"/>
                  </a:lnTo>
                  <a:lnTo>
                    <a:pt x="626" y="2561"/>
                  </a:lnTo>
                  <a:lnTo>
                    <a:pt x="534" y="2493"/>
                  </a:lnTo>
                  <a:lnTo>
                    <a:pt x="448" y="2419"/>
                  </a:lnTo>
                  <a:lnTo>
                    <a:pt x="368" y="2339"/>
                  </a:lnTo>
                  <a:lnTo>
                    <a:pt x="295" y="2254"/>
                  </a:lnTo>
                  <a:lnTo>
                    <a:pt x="229" y="2164"/>
                  </a:lnTo>
                  <a:lnTo>
                    <a:pt x="170" y="2068"/>
                  </a:lnTo>
                  <a:lnTo>
                    <a:pt x="120" y="1969"/>
                  </a:lnTo>
                  <a:lnTo>
                    <a:pt x="78" y="1865"/>
                  </a:lnTo>
                  <a:lnTo>
                    <a:pt x="44" y="1758"/>
                  </a:lnTo>
                  <a:lnTo>
                    <a:pt x="20" y="1647"/>
                  </a:lnTo>
                  <a:lnTo>
                    <a:pt x="5" y="1533"/>
                  </a:lnTo>
                  <a:lnTo>
                    <a:pt x="0" y="141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3492360" y="2276640"/>
            <a:ext cx="1970280" cy="1825560"/>
            <a:chOff x="3492360" y="2276640"/>
            <a:chExt cx="1970280" cy="1825560"/>
          </a:xfrm>
        </p:grpSpPr>
        <p:sp>
          <p:nvSpPr>
            <p:cNvPr id="157" name="Freeform 11"/>
            <p:cNvSpPr/>
            <p:nvPr/>
          </p:nvSpPr>
          <p:spPr>
            <a:xfrm>
              <a:off x="3492360" y="2276640"/>
              <a:ext cx="1970280" cy="1825560"/>
            </a:xfrm>
            <a:custGeom>
              <a:avLst/>
              <a:gdLst>
                <a:gd name="textAreaLeft" fmla="*/ 0 w 1970280"/>
                <a:gd name="textAreaRight" fmla="*/ 1970640 w 197028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0" y="1417"/>
                  </a:lnTo>
                  <a:lnTo>
                    <a:pt x="5" y="1533"/>
                  </a:lnTo>
                  <a:lnTo>
                    <a:pt x="20" y="1647"/>
                  </a:lnTo>
                  <a:lnTo>
                    <a:pt x="44" y="1758"/>
                  </a:lnTo>
                  <a:lnTo>
                    <a:pt x="78" y="1865"/>
                  </a:lnTo>
                  <a:lnTo>
                    <a:pt x="120" y="1969"/>
                  </a:lnTo>
                  <a:lnTo>
                    <a:pt x="170" y="2068"/>
                  </a:lnTo>
                  <a:lnTo>
                    <a:pt x="229" y="2164"/>
                  </a:lnTo>
                  <a:lnTo>
                    <a:pt x="295" y="2254"/>
                  </a:lnTo>
                  <a:lnTo>
                    <a:pt x="368" y="2339"/>
                  </a:lnTo>
                  <a:lnTo>
                    <a:pt x="448" y="2419"/>
                  </a:lnTo>
                  <a:lnTo>
                    <a:pt x="534" y="2493"/>
                  </a:lnTo>
                  <a:lnTo>
                    <a:pt x="626" y="2561"/>
                  </a:lnTo>
                  <a:lnTo>
                    <a:pt x="724" y="2622"/>
                  </a:lnTo>
                  <a:lnTo>
                    <a:pt x="827" y="2676"/>
                  </a:lnTo>
                  <a:lnTo>
                    <a:pt x="934" y="2723"/>
                  </a:lnTo>
                  <a:lnTo>
                    <a:pt x="1047" y="2762"/>
                  </a:lnTo>
                  <a:lnTo>
                    <a:pt x="1162" y="2793"/>
                  </a:lnTo>
                  <a:lnTo>
                    <a:pt x="1282" y="2816"/>
                  </a:lnTo>
                  <a:lnTo>
                    <a:pt x="1405" y="2830"/>
                  </a:lnTo>
                  <a:lnTo>
                    <a:pt x="1530" y="2834"/>
                  </a:lnTo>
                  <a:lnTo>
                    <a:pt x="1656" y="2830"/>
                  </a:lnTo>
                  <a:lnTo>
                    <a:pt x="1779" y="2816"/>
                  </a:lnTo>
                  <a:lnTo>
                    <a:pt x="1898" y="2793"/>
                  </a:lnTo>
                  <a:lnTo>
                    <a:pt x="2014" y="2762"/>
                  </a:lnTo>
                  <a:lnTo>
                    <a:pt x="2126" y="2723"/>
                  </a:lnTo>
                  <a:lnTo>
                    <a:pt x="2234" y="2676"/>
                  </a:lnTo>
                  <a:lnTo>
                    <a:pt x="2337" y="2622"/>
                  </a:lnTo>
                  <a:lnTo>
                    <a:pt x="2434" y="2561"/>
                  </a:lnTo>
                  <a:lnTo>
                    <a:pt x="2527" y="2493"/>
                  </a:lnTo>
                  <a:lnTo>
                    <a:pt x="2613" y="2419"/>
                  </a:lnTo>
                  <a:lnTo>
                    <a:pt x="2693" y="2339"/>
                  </a:lnTo>
                  <a:lnTo>
                    <a:pt x="2766" y="2254"/>
                  </a:lnTo>
                  <a:lnTo>
                    <a:pt x="2832" y="2164"/>
                  </a:lnTo>
                  <a:lnTo>
                    <a:pt x="2890" y="2068"/>
                  </a:lnTo>
                  <a:lnTo>
                    <a:pt x="2941" y="1969"/>
                  </a:lnTo>
                  <a:lnTo>
                    <a:pt x="2983" y="1865"/>
                  </a:lnTo>
                  <a:lnTo>
                    <a:pt x="3017" y="1758"/>
                  </a:lnTo>
                  <a:lnTo>
                    <a:pt x="3041" y="1647"/>
                  </a:lnTo>
                  <a:lnTo>
                    <a:pt x="3056" y="1533"/>
                  </a:lnTo>
                  <a:lnTo>
                    <a:pt x="3061" y="1417"/>
                  </a:lnTo>
                  <a:lnTo>
                    <a:pt x="3056" y="1301"/>
                  </a:lnTo>
                  <a:lnTo>
                    <a:pt x="3041" y="1187"/>
                  </a:lnTo>
                  <a:lnTo>
                    <a:pt x="3017" y="1076"/>
                  </a:lnTo>
                  <a:lnTo>
                    <a:pt x="2983" y="969"/>
                  </a:lnTo>
                  <a:lnTo>
                    <a:pt x="2941" y="865"/>
                  </a:lnTo>
                  <a:lnTo>
                    <a:pt x="2890" y="766"/>
                  </a:lnTo>
                  <a:lnTo>
                    <a:pt x="2832" y="670"/>
                  </a:lnTo>
                  <a:lnTo>
                    <a:pt x="2766" y="580"/>
                  </a:lnTo>
                  <a:lnTo>
                    <a:pt x="2693" y="494"/>
                  </a:lnTo>
                  <a:lnTo>
                    <a:pt x="2613" y="415"/>
                  </a:lnTo>
                  <a:lnTo>
                    <a:pt x="2527" y="341"/>
                  </a:lnTo>
                  <a:lnTo>
                    <a:pt x="2434" y="273"/>
                  </a:lnTo>
                  <a:lnTo>
                    <a:pt x="2337" y="212"/>
                  </a:lnTo>
                  <a:lnTo>
                    <a:pt x="2234" y="158"/>
                  </a:lnTo>
                  <a:lnTo>
                    <a:pt x="2126" y="111"/>
                  </a:lnTo>
                  <a:lnTo>
                    <a:pt x="2014" y="72"/>
                  </a:lnTo>
                  <a:lnTo>
                    <a:pt x="1898" y="41"/>
                  </a:lnTo>
                  <a:lnTo>
                    <a:pt x="1779" y="18"/>
                  </a:lnTo>
                  <a:lnTo>
                    <a:pt x="1656" y="4"/>
                  </a:lnTo>
                  <a:lnTo>
                    <a:pt x="1530" y="0"/>
                  </a:lnTo>
                  <a:lnTo>
                    <a:pt x="1405" y="4"/>
                  </a:lnTo>
                  <a:lnTo>
                    <a:pt x="1282" y="18"/>
                  </a:lnTo>
                  <a:lnTo>
                    <a:pt x="1162" y="41"/>
                  </a:lnTo>
                  <a:lnTo>
                    <a:pt x="1047" y="72"/>
                  </a:lnTo>
                  <a:lnTo>
                    <a:pt x="934" y="111"/>
                  </a:lnTo>
                  <a:lnTo>
                    <a:pt x="827" y="158"/>
                  </a:lnTo>
                  <a:lnTo>
                    <a:pt x="724" y="212"/>
                  </a:lnTo>
                  <a:lnTo>
                    <a:pt x="626" y="273"/>
                  </a:lnTo>
                  <a:lnTo>
                    <a:pt x="534" y="341"/>
                  </a:lnTo>
                  <a:lnTo>
                    <a:pt x="448" y="415"/>
                  </a:lnTo>
                  <a:lnTo>
                    <a:pt x="368" y="494"/>
                  </a:lnTo>
                  <a:lnTo>
                    <a:pt x="295" y="580"/>
                  </a:lnTo>
                  <a:lnTo>
                    <a:pt x="229" y="670"/>
                  </a:lnTo>
                  <a:lnTo>
                    <a:pt x="170" y="766"/>
                  </a:lnTo>
                  <a:lnTo>
                    <a:pt x="120" y="865"/>
                  </a:lnTo>
                  <a:lnTo>
                    <a:pt x="78" y="969"/>
                  </a:lnTo>
                  <a:lnTo>
                    <a:pt x="44" y="1076"/>
                  </a:lnTo>
                  <a:lnTo>
                    <a:pt x="20" y="1187"/>
                  </a:lnTo>
                  <a:lnTo>
                    <a:pt x="5" y="1301"/>
                  </a:lnTo>
                  <a:lnTo>
                    <a:pt x="0" y="1417"/>
                  </a:lnTo>
                  <a:close/>
                </a:path>
              </a:pathLst>
            </a:custGeom>
            <a:solidFill>
              <a:srgbClr val="fe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405900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3"/>
            <p:cNvSpPr/>
            <p:nvPr/>
          </p:nvSpPr>
          <p:spPr>
            <a:xfrm>
              <a:off x="469044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4"/>
            <p:cNvSpPr/>
            <p:nvPr/>
          </p:nvSpPr>
          <p:spPr>
            <a:xfrm>
              <a:off x="405900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5"/>
            <p:cNvSpPr/>
            <p:nvPr/>
          </p:nvSpPr>
          <p:spPr>
            <a:xfrm>
              <a:off x="469044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"/>
            <p:cNvSpPr/>
            <p:nvPr/>
          </p:nvSpPr>
          <p:spPr>
            <a:xfrm>
              <a:off x="3943440" y="3587040"/>
              <a:ext cx="1066680" cy="1699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58" h="264">
                  <a:moveTo>
                    <a:pt x="0" y="0"/>
                  </a:moveTo>
                  <a:lnTo>
                    <a:pt x="82" y="50"/>
                  </a:lnTo>
                  <a:lnTo>
                    <a:pt x="165" y="94"/>
                  </a:lnTo>
                  <a:lnTo>
                    <a:pt x="248" y="134"/>
                  </a:lnTo>
                  <a:lnTo>
                    <a:pt x="331" y="168"/>
                  </a:lnTo>
                  <a:lnTo>
                    <a:pt x="414" y="197"/>
                  </a:lnTo>
                  <a:lnTo>
                    <a:pt x="497" y="221"/>
                  </a:lnTo>
                  <a:lnTo>
                    <a:pt x="580" y="240"/>
                  </a:lnTo>
                  <a:lnTo>
                    <a:pt x="663" y="253"/>
                  </a:lnTo>
                  <a:lnTo>
                    <a:pt x="746" y="261"/>
                  </a:lnTo>
                  <a:lnTo>
                    <a:pt x="829" y="263"/>
                  </a:lnTo>
                  <a:lnTo>
                    <a:pt x="912" y="261"/>
                  </a:lnTo>
                  <a:lnTo>
                    <a:pt x="994" y="253"/>
                  </a:lnTo>
                  <a:lnTo>
                    <a:pt x="1077" y="240"/>
                  </a:lnTo>
                  <a:lnTo>
                    <a:pt x="1160" y="221"/>
                  </a:lnTo>
                  <a:lnTo>
                    <a:pt x="1243" y="197"/>
                  </a:lnTo>
                  <a:lnTo>
                    <a:pt x="1326" y="168"/>
                  </a:lnTo>
                  <a:lnTo>
                    <a:pt x="1409" y="134"/>
                  </a:lnTo>
                  <a:lnTo>
                    <a:pt x="1491" y="94"/>
                  </a:lnTo>
                  <a:lnTo>
                    <a:pt x="1574" y="50"/>
                  </a:lnTo>
                  <a:lnTo>
                    <a:pt x="165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>
              <a:off x="3492360" y="2276640"/>
              <a:ext cx="1970280" cy="1825560"/>
            </a:xfrm>
            <a:custGeom>
              <a:avLst/>
              <a:gdLst>
                <a:gd name="textAreaLeft" fmla="*/ 0 w 1970280"/>
                <a:gd name="textAreaRight" fmla="*/ 1970640 w 197028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5" y="1301"/>
                  </a:lnTo>
                  <a:lnTo>
                    <a:pt x="20" y="1187"/>
                  </a:lnTo>
                  <a:lnTo>
                    <a:pt x="44" y="1076"/>
                  </a:lnTo>
                  <a:lnTo>
                    <a:pt x="78" y="969"/>
                  </a:lnTo>
                  <a:lnTo>
                    <a:pt x="120" y="865"/>
                  </a:lnTo>
                  <a:lnTo>
                    <a:pt x="170" y="766"/>
                  </a:lnTo>
                  <a:lnTo>
                    <a:pt x="229" y="670"/>
                  </a:lnTo>
                  <a:lnTo>
                    <a:pt x="295" y="580"/>
                  </a:lnTo>
                  <a:lnTo>
                    <a:pt x="368" y="494"/>
                  </a:lnTo>
                  <a:lnTo>
                    <a:pt x="448" y="415"/>
                  </a:lnTo>
                  <a:lnTo>
                    <a:pt x="534" y="341"/>
                  </a:lnTo>
                  <a:lnTo>
                    <a:pt x="626" y="273"/>
                  </a:lnTo>
                  <a:lnTo>
                    <a:pt x="724" y="212"/>
                  </a:lnTo>
                  <a:lnTo>
                    <a:pt x="827" y="158"/>
                  </a:lnTo>
                  <a:lnTo>
                    <a:pt x="934" y="111"/>
                  </a:lnTo>
                  <a:lnTo>
                    <a:pt x="1047" y="72"/>
                  </a:lnTo>
                  <a:lnTo>
                    <a:pt x="1162" y="41"/>
                  </a:lnTo>
                  <a:lnTo>
                    <a:pt x="1282" y="18"/>
                  </a:lnTo>
                  <a:lnTo>
                    <a:pt x="1405" y="4"/>
                  </a:lnTo>
                  <a:lnTo>
                    <a:pt x="1530" y="0"/>
                  </a:lnTo>
                  <a:lnTo>
                    <a:pt x="1656" y="4"/>
                  </a:lnTo>
                  <a:lnTo>
                    <a:pt x="1779" y="18"/>
                  </a:lnTo>
                  <a:lnTo>
                    <a:pt x="1898" y="41"/>
                  </a:lnTo>
                  <a:lnTo>
                    <a:pt x="2014" y="72"/>
                  </a:lnTo>
                  <a:lnTo>
                    <a:pt x="2126" y="111"/>
                  </a:lnTo>
                  <a:lnTo>
                    <a:pt x="2234" y="158"/>
                  </a:lnTo>
                  <a:lnTo>
                    <a:pt x="2337" y="212"/>
                  </a:lnTo>
                  <a:lnTo>
                    <a:pt x="2434" y="273"/>
                  </a:lnTo>
                  <a:lnTo>
                    <a:pt x="2527" y="341"/>
                  </a:lnTo>
                  <a:lnTo>
                    <a:pt x="2613" y="415"/>
                  </a:lnTo>
                  <a:lnTo>
                    <a:pt x="2693" y="494"/>
                  </a:lnTo>
                  <a:lnTo>
                    <a:pt x="2766" y="580"/>
                  </a:lnTo>
                  <a:lnTo>
                    <a:pt x="2832" y="670"/>
                  </a:lnTo>
                  <a:lnTo>
                    <a:pt x="2890" y="766"/>
                  </a:lnTo>
                  <a:lnTo>
                    <a:pt x="2941" y="865"/>
                  </a:lnTo>
                  <a:lnTo>
                    <a:pt x="2983" y="969"/>
                  </a:lnTo>
                  <a:lnTo>
                    <a:pt x="3017" y="1076"/>
                  </a:lnTo>
                  <a:lnTo>
                    <a:pt x="3041" y="1187"/>
                  </a:lnTo>
                  <a:lnTo>
                    <a:pt x="3056" y="1301"/>
                  </a:lnTo>
                  <a:lnTo>
                    <a:pt x="3061" y="1417"/>
                  </a:lnTo>
                  <a:lnTo>
                    <a:pt x="3056" y="1533"/>
                  </a:lnTo>
                  <a:lnTo>
                    <a:pt x="3041" y="1647"/>
                  </a:lnTo>
                  <a:lnTo>
                    <a:pt x="3017" y="1758"/>
                  </a:lnTo>
                  <a:lnTo>
                    <a:pt x="2983" y="1865"/>
                  </a:lnTo>
                  <a:lnTo>
                    <a:pt x="2941" y="1969"/>
                  </a:lnTo>
                  <a:lnTo>
                    <a:pt x="2890" y="2068"/>
                  </a:lnTo>
                  <a:lnTo>
                    <a:pt x="2832" y="2164"/>
                  </a:lnTo>
                  <a:lnTo>
                    <a:pt x="2766" y="2254"/>
                  </a:lnTo>
                  <a:lnTo>
                    <a:pt x="2693" y="2339"/>
                  </a:lnTo>
                  <a:lnTo>
                    <a:pt x="2613" y="2419"/>
                  </a:lnTo>
                  <a:lnTo>
                    <a:pt x="2527" y="2493"/>
                  </a:lnTo>
                  <a:lnTo>
                    <a:pt x="2434" y="2561"/>
                  </a:lnTo>
                  <a:lnTo>
                    <a:pt x="2337" y="2622"/>
                  </a:lnTo>
                  <a:lnTo>
                    <a:pt x="2234" y="2676"/>
                  </a:lnTo>
                  <a:lnTo>
                    <a:pt x="2126" y="2723"/>
                  </a:lnTo>
                  <a:lnTo>
                    <a:pt x="2014" y="2762"/>
                  </a:lnTo>
                  <a:lnTo>
                    <a:pt x="1898" y="2793"/>
                  </a:lnTo>
                  <a:lnTo>
                    <a:pt x="1779" y="2816"/>
                  </a:lnTo>
                  <a:lnTo>
                    <a:pt x="1656" y="2830"/>
                  </a:lnTo>
                  <a:lnTo>
                    <a:pt x="1530" y="2834"/>
                  </a:lnTo>
                  <a:lnTo>
                    <a:pt x="1405" y="2830"/>
                  </a:lnTo>
                  <a:lnTo>
                    <a:pt x="1282" y="2816"/>
                  </a:lnTo>
                  <a:lnTo>
                    <a:pt x="1162" y="2793"/>
                  </a:lnTo>
                  <a:lnTo>
                    <a:pt x="1047" y="2762"/>
                  </a:lnTo>
                  <a:lnTo>
                    <a:pt x="934" y="2723"/>
                  </a:lnTo>
                  <a:lnTo>
                    <a:pt x="827" y="2676"/>
                  </a:lnTo>
                  <a:lnTo>
                    <a:pt x="724" y="2622"/>
                  </a:lnTo>
                  <a:lnTo>
                    <a:pt x="626" y="2561"/>
                  </a:lnTo>
                  <a:lnTo>
                    <a:pt x="534" y="2493"/>
                  </a:lnTo>
                  <a:lnTo>
                    <a:pt x="448" y="2419"/>
                  </a:lnTo>
                  <a:lnTo>
                    <a:pt x="368" y="2339"/>
                  </a:lnTo>
                  <a:lnTo>
                    <a:pt x="295" y="2254"/>
                  </a:lnTo>
                  <a:lnTo>
                    <a:pt x="229" y="2164"/>
                  </a:lnTo>
                  <a:lnTo>
                    <a:pt x="170" y="2068"/>
                  </a:lnTo>
                  <a:lnTo>
                    <a:pt x="120" y="1969"/>
                  </a:lnTo>
                  <a:lnTo>
                    <a:pt x="78" y="1865"/>
                  </a:lnTo>
                  <a:lnTo>
                    <a:pt x="44" y="1758"/>
                  </a:lnTo>
                  <a:lnTo>
                    <a:pt x="20" y="1647"/>
                  </a:lnTo>
                  <a:lnTo>
                    <a:pt x="5" y="1533"/>
                  </a:lnTo>
                  <a:lnTo>
                    <a:pt x="0" y="141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8"/>
            <p:cNvSpPr/>
            <p:nvPr/>
          </p:nvSpPr>
          <p:spPr>
            <a:xfrm>
              <a:off x="3784320" y="3256560"/>
              <a:ext cx="1386000" cy="480240"/>
            </a:xfrm>
            <a:custGeom>
              <a:avLst/>
              <a:gdLst>
                <a:gd name="textAreaLeft" fmla="*/ 0 w 1386000"/>
                <a:gd name="textAreaRight" fmla="*/ 1386360 w 1386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154" h="746">
                  <a:moveTo>
                    <a:pt x="2154" y="65"/>
                  </a:moveTo>
                  <a:lnTo>
                    <a:pt x="2150" y="121"/>
                  </a:lnTo>
                  <a:lnTo>
                    <a:pt x="2140" y="175"/>
                  </a:lnTo>
                  <a:lnTo>
                    <a:pt x="2123" y="228"/>
                  </a:lnTo>
                  <a:lnTo>
                    <a:pt x="2099" y="280"/>
                  </a:lnTo>
                  <a:lnTo>
                    <a:pt x="2069" y="330"/>
                  </a:lnTo>
                  <a:lnTo>
                    <a:pt x="2034" y="377"/>
                  </a:lnTo>
                  <a:lnTo>
                    <a:pt x="1993" y="423"/>
                  </a:lnTo>
                  <a:lnTo>
                    <a:pt x="1946" y="467"/>
                  </a:lnTo>
                  <a:lnTo>
                    <a:pt x="1895" y="508"/>
                  </a:lnTo>
                  <a:lnTo>
                    <a:pt x="1839" y="546"/>
                  </a:lnTo>
                  <a:lnTo>
                    <a:pt x="1778" y="581"/>
                  </a:lnTo>
                  <a:lnTo>
                    <a:pt x="1713" y="614"/>
                  </a:lnTo>
                  <a:lnTo>
                    <a:pt x="1644" y="643"/>
                  </a:lnTo>
                  <a:lnTo>
                    <a:pt x="1572" y="669"/>
                  </a:lnTo>
                  <a:lnTo>
                    <a:pt x="1496" y="692"/>
                  </a:lnTo>
                  <a:lnTo>
                    <a:pt x="1417" y="710"/>
                  </a:lnTo>
                  <a:lnTo>
                    <a:pt x="1336" y="725"/>
                  </a:lnTo>
                  <a:lnTo>
                    <a:pt x="1252" y="736"/>
                  </a:lnTo>
                  <a:lnTo>
                    <a:pt x="1165" y="743"/>
                  </a:lnTo>
                  <a:lnTo>
                    <a:pt x="1077" y="745"/>
                  </a:lnTo>
                  <a:lnTo>
                    <a:pt x="988" y="743"/>
                  </a:lnTo>
                  <a:lnTo>
                    <a:pt x="902" y="736"/>
                  </a:lnTo>
                  <a:lnTo>
                    <a:pt x="818" y="725"/>
                  </a:lnTo>
                  <a:lnTo>
                    <a:pt x="736" y="710"/>
                  </a:lnTo>
                  <a:lnTo>
                    <a:pt x="657" y="692"/>
                  </a:lnTo>
                  <a:lnTo>
                    <a:pt x="582" y="669"/>
                  </a:lnTo>
                  <a:lnTo>
                    <a:pt x="509" y="643"/>
                  </a:lnTo>
                  <a:lnTo>
                    <a:pt x="441" y="614"/>
                  </a:lnTo>
                  <a:lnTo>
                    <a:pt x="376" y="581"/>
                  </a:lnTo>
                  <a:lnTo>
                    <a:pt x="315" y="546"/>
                  </a:lnTo>
                  <a:lnTo>
                    <a:pt x="259" y="508"/>
                  </a:lnTo>
                  <a:lnTo>
                    <a:pt x="207" y="467"/>
                  </a:lnTo>
                  <a:lnTo>
                    <a:pt x="161" y="423"/>
                  </a:lnTo>
                  <a:lnTo>
                    <a:pt x="120" y="377"/>
                  </a:lnTo>
                  <a:lnTo>
                    <a:pt x="84" y="330"/>
                  </a:lnTo>
                  <a:lnTo>
                    <a:pt x="54" y="280"/>
                  </a:lnTo>
                  <a:lnTo>
                    <a:pt x="31" y="228"/>
                  </a:lnTo>
                  <a:lnTo>
                    <a:pt x="14" y="175"/>
                  </a:lnTo>
                  <a:lnTo>
                    <a:pt x="3" y="121"/>
                  </a:lnTo>
                  <a:lnTo>
                    <a:pt x="0" y="65"/>
                  </a:lnTo>
                  <a:lnTo>
                    <a:pt x="0" y="45"/>
                  </a:lnTo>
                  <a:lnTo>
                    <a:pt x="1" y="25"/>
                  </a:lnTo>
                  <a:lnTo>
                    <a:pt x="4" y="5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9"/>
          <p:cNvGrpSpPr/>
          <p:nvPr/>
        </p:nvGrpSpPr>
        <p:grpSpPr>
          <a:xfrm>
            <a:off x="6516720" y="2276640"/>
            <a:ext cx="1969920" cy="1825560"/>
            <a:chOff x="6516720" y="2276640"/>
            <a:chExt cx="1969920" cy="1825560"/>
          </a:xfrm>
        </p:grpSpPr>
        <p:sp>
          <p:nvSpPr>
            <p:cNvPr id="166" name="Freeform 20"/>
            <p:cNvSpPr/>
            <p:nvPr/>
          </p:nvSpPr>
          <p:spPr>
            <a:xfrm>
              <a:off x="6516720" y="2276640"/>
              <a:ext cx="1969920" cy="1825560"/>
            </a:xfrm>
            <a:custGeom>
              <a:avLst/>
              <a:gdLst>
                <a:gd name="textAreaLeft" fmla="*/ 0 w 1969920"/>
                <a:gd name="textAreaRight" fmla="*/ 1970280 w 196992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0" y="1417"/>
                  </a:lnTo>
                  <a:lnTo>
                    <a:pt x="5" y="1533"/>
                  </a:lnTo>
                  <a:lnTo>
                    <a:pt x="20" y="1647"/>
                  </a:lnTo>
                  <a:lnTo>
                    <a:pt x="44" y="1758"/>
                  </a:lnTo>
                  <a:lnTo>
                    <a:pt x="78" y="1865"/>
                  </a:lnTo>
                  <a:lnTo>
                    <a:pt x="120" y="1969"/>
                  </a:lnTo>
                  <a:lnTo>
                    <a:pt x="170" y="2068"/>
                  </a:lnTo>
                  <a:lnTo>
                    <a:pt x="229" y="2164"/>
                  </a:lnTo>
                  <a:lnTo>
                    <a:pt x="295" y="2254"/>
                  </a:lnTo>
                  <a:lnTo>
                    <a:pt x="368" y="2339"/>
                  </a:lnTo>
                  <a:lnTo>
                    <a:pt x="448" y="2419"/>
                  </a:lnTo>
                  <a:lnTo>
                    <a:pt x="534" y="2493"/>
                  </a:lnTo>
                  <a:lnTo>
                    <a:pt x="626" y="2561"/>
                  </a:lnTo>
                  <a:lnTo>
                    <a:pt x="724" y="2622"/>
                  </a:lnTo>
                  <a:lnTo>
                    <a:pt x="827" y="2676"/>
                  </a:lnTo>
                  <a:lnTo>
                    <a:pt x="934" y="2723"/>
                  </a:lnTo>
                  <a:lnTo>
                    <a:pt x="1047" y="2762"/>
                  </a:lnTo>
                  <a:lnTo>
                    <a:pt x="1162" y="2793"/>
                  </a:lnTo>
                  <a:lnTo>
                    <a:pt x="1282" y="2816"/>
                  </a:lnTo>
                  <a:lnTo>
                    <a:pt x="1405" y="2830"/>
                  </a:lnTo>
                  <a:lnTo>
                    <a:pt x="1530" y="2834"/>
                  </a:lnTo>
                  <a:lnTo>
                    <a:pt x="1656" y="2830"/>
                  </a:lnTo>
                  <a:lnTo>
                    <a:pt x="1779" y="2816"/>
                  </a:lnTo>
                  <a:lnTo>
                    <a:pt x="1898" y="2793"/>
                  </a:lnTo>
                  <a:lnTo>
                    <a:pt x="2014" y="2762"/>
                  </a:lnTo>
                  <a:lnTo>
                    <a:pt x="2126" y="2723"/>
                  </a:lnTo>
                  <a:lnTo>
                    <a:pt x="2234" y="2676"/>
                  </a:lnTo>
                  <a:lnTo>
                    <a:pt x="2337" y="2622"/>
                  </a:lnTo>
                  <a:lnTo>
                    <a:pt x="2434" y="2561"/>
                  </a:lnTo>
                  <a:lnTo>
                    <a:pt x="2527" y="2493"/>
                  </a:lnTo>
                  <a:lnTo>
                    <a:pt x="2613" y="2419"/>
                  </a:lnTo>
                  <a:lnTo>
                    <a:pt x="2693" y="2339"/>
                  </a:lnTo>
                  <a:lnTo>
                    <a:pt x="2766" y="2254"/>
                  </a:lnTo>
                  <a:lnTo>
                    <a:pt x="2832" y="2164"/>
                  </a:lnTo>
                  <a:lnTo>
                    <a:pt x="2890" y="2068"/>
                  </a:lnTo>
                  <a:lnTo>
                    <a:pt x="2941" y="1969"/>
                  </a:lnTo>
                  <a:lnTo>
                    <a:pt x="2983" y="1865"/>
                  </a:lnTo>
                  <a:lnTo>
                    <a:pt x="3017" y="1758"/>
                  </a:lnTo>
                  <a:lnTo>
                    <a:pt x="3041" y="1647"/>
                  </a:lnTo>
                  <a:lnTo>
                    <a:pt x="3056" y="1533"/>
                  </a:lnTo>
                  <a:lnTo>
                    <a:pt x="3061" y="1417"/>
                  </a:lnTo>
                  <a:lnTo>
                    <a:pt x="3056" y="1301"/>
                  </a:lnTo>
                  <a:lnTo>
                    <a:pt x="3041" y="1187"/>
                  </a:lnTo>
                  <a:lnTo>
                    <a:pt x="3017" y="1076"/>
                  </a:lnTo>
                  <a:lnTo>
                    <a:pt x="2983" y="969"/>
                  </a:lnTo>
                  <a:lnTo>
                    <a:pt x="2941" y="865"/>
                  </a:lnTo>
                  <a:lnTo>
                    <a:pt x="2890" y="766"/>
                  </a:lnTo>
                  <a:lnTo>
                    <a:pt x="2832" y="670"/>
                  </a:lnTo>
                  <a:lnTo>
                    <a:pt x="2766" y="580"/>
                  </a:lnTo>
                  <a:lnTo>
                    <a:pt x="2693" y="494"/>
                  </a:lnTo>
                  <a:lnTo>
                    <a:pt x="2613" y="415"/>
                  </a:lnTo>
                  <a:lnTo>
                    <a:pt x="2527" y="341"/>
                  </a:lnTo>
                  <a:lnTo>
                    <a:pt x="2434" y="273"/>
                  </a:lnTo>
                  <a:lnTo>
                    <a:pt x="2337" y="212"/>
                  </a:lnTo>
                  <a:lnTo>
                    <a:pt x="2234" y="158"/>
                  </a:lnTo>
                  <a:lnTo>
                    <a:pt x="2126" y="111"/>
                  </a:lnTo>
                  <a:lnTo>
                    <a:pt x="2014" y="72"/>
                  </a:lnTo>
                  <a:lnTo>
                    <a:pt x="1898" y="41"/>
                  </a:lnTo>
                  <a:lnTo>
                    <a:pt x="1779" y="18"/>
                  </a:lnTo>
                  <a:lnTo>
                    <a:pt x="1656" y="4"/>
                  </a:lnTo>
                  <a:lnTo>
                    <a:pt x="1530" y="0"/>
                  </a:lnTo>
                  <a:lnTo>
                    <a:pt x="1405" y="4"/>
                  </a:lnTo>
                  <a:lnTo>
                    <a:pt x="1282" y="18"/>
                  </a:lnTo>
                  <a:lnTo>
                    <a:pt x="1162" y="41"/>
                  </a:lnTo>
                  <a:lnTo>
                    <a:pt x="1047" y="72"/>
                  </a:lnTo>
                  <a:lnTo>
                    <a:pt x="934" y="111"/>
                  </a:lnTo>
                  <a:lnTo>
                    <a:pt x="827" y="158"/>
                  </a:lnTo>
                  <a:lnTo>
                    <a:pt x="724" y="212"/>
                  </a:lnTo>
                  <a:lnTo>
                    <a:pt x="626" y="273"/>
                  </a:lnTo>
                  <a:lnTo>
                    <a:pt x="534" y="341"/>
                  </a:lnTo>
                  <a:lnTo>
                    <a:pt x="448" y="415"/>
                  </a:lnTo>
                  <a:lnTo>
                    <a:pt x="368" y="494"/>
                  </a:lnTo>
                  <a:lnTo>
                    <a:pt x="295" y="580"/>
                  </a:lnTo>
                  <a:lnTo>
                    <a:pt x="229" y="670"/>
                  </a:lnTo>
                  <a:lnTo>
                    <a:pt x="170" y="766"/>
                  </a:lnTo>
                  <a:lnTo>
                    <a:pt x="120" y="865"/>
                  </a:lnTo>
                  <a:lnTo>
                    <a:pt x="78" y="969"/>
                  </a:lnTo>
                  <a:lnTo>
                    <a:pt x="44" y="1076"/>
                  </a:lnTo>
                  <a:lnTo>
                    <a:pt x="20" y="1187"/>
                  </a:lnTo>
                  <a:lnTo>
                    <a:pt x="5" y="1301"/>
                  </a:lnTo>
                  <a:lnTo>
                    <a:pt x="0" y="1417"/>
                  </a:lnTo>
                  <a:close/>
                </a:path>
              </a:pathLst>
            </a:custGeom>
            <a:solidFill>
              <a:srgbClr val="fe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1"/>
            <p:cNvSpPr/>
            <p:nvPr/>
          </p:nvSpPr>
          <p:spPr>
            <a:xfrm>
              <a:off x="708336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2"/>
            <p:cNvSpPr/>
            <p:nvPr/>
          </p:nvSpPr>
          <p:spPr>
            <a:xfrm>
              <a:off x="771444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66"/>
                  </a:lnTo>
                  <a:lnTo>
                    <a:pt x="6" y="188"/>
                  </a:lnTo>
                  <a:lnTo>
                    <a:pt x="13" y="208"/>
                  </a:lnTo>
                  <a:lnTo>
                    <a:pt x="24" y="226"/>
                  </a:lnTo>
                  <a:lnTo>
                    <a:pt x="38" y="243"/>
                  </a:lnTo>
                  <a:lnTo>
                    <a:pt x="53" y="258"/>
                  </a:lnTo>
                  <a:lnTo>
                    <a:pt x="71" y="270"/>
                  </a:lnTo>
                  <a:lnTo>
                    <a:pt x="91" y="281"/>
                  </a:lnTo>
                  <a:lnTo>
                    <a:pt x="112" y="288"/>
                  </a:lnTo>
                  <a:lnTo>
                    <a:pt x="135" y="293"/>
                  </a:lnTo>
                  <a:lnTo>
                    <a:pt x="159" y="295"/>
                  </a:lnTo>
                  <a:lnTo>
                    <a:pt x="180" y="294"/>
                  </a:lnTo>
                  <a:lnTo>
                    <a:pt x="203" y="289"/>
                  </a:lnTo>
                  <a:lnTo>
                    <a:pt x="224" y="282"/>
                  </a:lnTo>
                  <a:lnTo>
                    <a:pt x="244" y="272"/>
                  </a:lnTo>
                  <a:lnTo>
                    <a:pt x="262" y="260"/>
                  </a:lnTo>
                  <a:lnTo>
                    <a:pt x="278" y="245"/>
                  </a:lnTo>
                  <a:lnTo>
                    <a:pt x="292" y="228"/>
                  </a:lnTo>
                  <a:lnTo>
                    <a:pt x="303" y="210"/>
                  </a:lnTo>
                  <a:lnTo>
                    <a:pt x="312" y="190"/>
                  </a:lnTo>
                  <a:lnTo>
                    <a:pt x="317" y="169"/>
                  </a:lnTo>
                  <a:lnTo>
                    <a:pt x="318" y="147"/>
                  </a:lnTo>
                  <a:lnTo>
                    <a:pt x="317" y="128"/>
                  </a:lnTo>
                  <a:lnTo>
                    <a:pt x="312" y="107"/>
                  </a:lnTo>
                  <a:lnTo>
                    <a:pt x="305" y="87"/>
                  </a:lnTo>
                  <a:lnTo>
                    <a:pt x="294" y="68"/>
                  </a:lnTo>
                  <a:lnTo>
                    <a:pt x="280" y="51"/>
                  </a:lnTo>
                  <a:lnTo>
                    <a:pt x="265" y="37"/>
                  </a:lnTo>
                  <a:lnTo>
                    <a:pt x="247" y="24"/>
                  </a:lnTo>
                  <a:lnTo>
                    <a:pt x="227" y="14"/>
                  </a:lnTo>
                  <a:lnTo>
                    <a:pt x="206" y="6"/>
                  </a:lnTo>
                  <a:lnTo>
                    <a:pt x="183" y="1"/>
                  </a:lnTo>
                  <a:lnTo>
                    <a:pt x="159" y="0"/>
                  </a:lnTo>
                  <a:lnTo>
                    <a:pt x="138" y="1"/>
                  </a:lnTo>
                  <a:lnTo>
                    <a:pt x="115" y="5"/>
                  </a:lnTo>
                  <a:lnTo>
                    <a:pt x="94" y="12"/>
                  </a:lnTo>
                  <a:lnTo>
                    <a:pt x="74" y="22"/>
                  </a:lnTo>
                  <a:lnTo>
                    <a:pt x="56" y="35"/>
                  </a:lnTo>
                  <a:lnTo>
                    <a:pt x="40" y="49"/>
                  </a:lnTo>
                  <a:lnTo>
                    <a:pt x="26" y="66"/>
                  </a:lnTo>
                  <a:lnTo>
                    <a:pt x="15" y="84"/>
                  </a:lnTo>
                  <a:lnTo>
                    <a:pt x="6" y="104"/>
                  </a:lnTo>
                  <a:lnTo>
                    <a:pt x="1" y="12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cc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3"/>
            <p:cNvSpPr/>
            <p:nvPr/>
          </p:nvSpPr>
          <p:spPr>
            <a:xfrm>
              <a:off x="708336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4"/>
            <p:cNvSpPr/>
            <p:nvPr/>
          </p:nvSpPr>
          <p:spPr>
            <a:xfrm>
              <a:off x="7714440" y="2821320"/>
              <a:ext cx="205200" cy="18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9" h="295">
                  <a:moveTo>
                    <a:pt x="0" y="147"/>
                  </a:moveTo>
                  <a:lnTo>
                    <a:pt x="1" y="125"/>
                  </a:lnTo>
                  <a:lnTo>
                    <a:pt x="6" y="104"/>
                  </a:lnTo>
                  <a:lnTo>
                    <a:pt x="15" y="84"/>
                  </a:lnTo>
                  <a:lnTo>
                    <a:pt x="26" y="66"/>
                  </a:lnTo>
                  <a:lnTo>
                    <a:pt x="40" y="49"/>
                  </a:lnTo>
                  <a:lnTo>
                    <a:pt x="56" y="35"/>
                  </a:lnTo>
                  <a:lnTo>
                    <a:pt x="74" y="22"/>
                  </a:lnTo>
                  <a:lnTo>
                    <a:pt x="94" y="12"/>
                  </a:lnTo>
                  <a:lnTo>
                    <a:pt x="115" y="5"/>
                  </a:lnTo>
                  <a:lnTo>
                    <a:pt x="138" y="1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06" y="6"/>
                  </a:lnTo>
                  <a:lnTo>
                    <a:pt x="227" y="14"/>
                  </a:lnTo>
                  <a:lnTo>
                    <a:pt x="247" y="24"/>
                  </a:lnTo>
                  <a:lnTo>
                    <a:pt x="265" y="37"/>
                  </a:lnTo>
                  <a:lnTo>
                    <a:pt x="280" y="51"/>
                  </a:lnTo>
                  <a:lnTo>
                    <a:pt x="294" y="68"/>
                  </a:lnTo>
                  <a:lnTo>
                    <a:pt x="305" y="87"/>
                  </a:lnTo>
                  <a:lnTo>
                    <a:pt x="312" y="107"/>
                  </a:lnTo>
                  <a:lnTo>
                    <a:pt x="317" y="128"/>
                  </a:lnTo>
                  <a:lnTo>
                    <a:pt x="318" y="147"/>
                  </a:lnTo>
                  <a:lnTo>
                    <a:pt x="317" y="169"/>
                  </a:lnTo>
                  <a:lnTo>
                    <a:pt x="312" y="190"/>
                  </a:lnTo>
                  <a:lnTo>
                    <a:pt x="303" y="210"/>
                  </a:lnTo>
                  <a:lnTo>
                    <a:pt x="292" y="228"/>
                  </a:lnTo>
                  <a:lnTo>
                    <a:pt x="278" y="245"/>
                  </a:lnTo>
                  <a:lnTo>
                    <a:pt x="262" y="260"/>
                  </a:lnTo>
                  <a:lnTo>
                    <a:pt x="244" y="272"/>
                  </a:lnTo>
                  <a:lnTo>
                    <a:pt x="224" y="282"/>
                  </a:lnTo>
                  <a:lnTo>
                    <a:pt x="203" y="289"/>
                  </a:lnTo>
                  <a:lnTo>
                    <a:pt x="180" y="294"/>
                  </a:lnTo>
                  <a:lnTo>
                    <a:pt x="159" y="295"/>
                  </a:lnTo>
                  <a:lnTo>
                    <a:pt x="135" y="293"/>
                  </a:lnTo>
                  <a:lnTo>
                    <a:pt x="112" y="288"/>
                  </a:lnTo>
                  <a:lnTo>
                    <a:pt x="91" y="281"/>
                  </a:lnTo>
                  <a:lnTo>
                    <a:pt x="71" y="270"/>
                  </a:lnTo>
                  <a:lnTo>
                    <a:pt x="53" y="258"/>
                  </a:lnTo>
                  <a:lnTo>
                    <a:pt x="38" y="243"/>
                  </a:lnTo>
                  <a:lnTo>
                    <a:pt x="24" y="226"/>
                  </a:lnTo>
                  <a:lnTo>
                    <a:pt x="13" y="208"/>
                  </a:lnTo>
                  <a:lnTo>
                    <a:pt x="6" y="188"/>
                  </a:lnTo>
                  <a:lnTo>
                    <a:pt x="1" y="166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5"/>
            <p:cNvSpPr/>
            <p:nvPr/>
          </p:nvSpPr>
          <p:spPr>
            <a:xfrm>
              <a:off x="6967440" y="3587040"/>
              <a:ext cx="1066680" cy="1699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58" h="264">
                  <a:moveTo>
                    <a:pt x="0" y="0"/>
                  </a:moveTo>
                  <a:lnTo>
                    <a:pt x="82" y="50"/>
                  </a:lnTo>
                  <a:lnTo>
                    <a:pt x="165" y="94"/>
                  </a:lnTo>
                  <a:lnTo>
                    <a:pt x="248" y="134"/>
                  </a:lnTo>
                  <a:lnTo>
                    <a:pt x="331" y="168"/>
                  </a:lnTo>
                  <a:lnTo>
                    <a:pt x="414" y="197"/>
                  </a:lnTo>
                  <a:lnTo>
                    <a:pt x="497" y="221"/>
                  </a:lnTo>
                  <a:lnTo>
                    <a:pt x="580" y="240"/>
                  </a:lnTo>
                  <a:lnTo>
                    <a:pt x="663" y="253"/>
                  </a:lnTo>
                  <a:lnTo>
                    <a:pt x="746" y="261"/>
                  </a:lnTo>
                  <a:lnTo>
                    <a:pt x="829" y="263"/>
                  </a:lnTo>
                  <a:lnTo>
                    <a:pt x="912" y="261"/>
                  </a:lnTo>
                  <a:lnTo>
                    <a:pt x="994" y="253"/>
                  </a:lnTo>
                  <a:lnTo>
                    <a:pt x="1077" y="240"/>
                  </a:lnTo>
                  <a:lnTo>
                    <a:pt x="1160" y="221"/>
                  </a:lnTo>
                  <a:lnTo>
                    <a:pt x="1243" y="197"/>
                  </a:lnTo>
                  <a:lnTo>
                    <a:pt x="1326" y="168"/>
                  </a:lnTo>
                  <a:lnTo>
                    <a:pt x="1409" y="134"/>
                  </a:lnTo>
                  <a:lnTo>
                    <a:pt x="1491" y="94"/>
                  </a:lnTo>
                  <a:lnTo>
                    <a:pt x="1574" y="50"/>
                  </a:lnTo>
                  <a:lnTo>
                    <a:pt x="165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6"/>
            <p:cNvSpPr/>
            <p:nvPr/>
          </p:nvSpPr>
          <p:spPr>
            <a:xfrm>
              <a:off x="6516720" y="2276640"/>
              <a:ext cx="1969920" cy="1825560"/>
            </a:xfrm>
            <a:custGeom>
              <a:avLst/>
              <a:gdLst>
                <a:gd name="textAreaLeft" fmla="*/ 0 w 1969920"/>
                <a:gd name="textAreaRight" fmla="*/ 1970280 w 1969920"/>
                <a:gd name="textAreaTop" fmla="*/ 0 h 1825560"/>
                <a:gd name="textAreaBottom" fmla="*/ 1825920 h 1825560"/>
              </a:gdLst>
              <a:ahLst/>
              <a:rect l="textAreaLeft" t="textAreaTop" r="textAreaRight" b="textAreaBottom"/>
              <a:pathLst>
                <a:path w="3062" h="2835">
                  <a:moveTo>
                    <a:pt x="0" y="1417"/>
                  </a:moveTo>
                  <a:lnTo>
                    <a:pt x="5" y="1301"/>
                  </a:lnTo>
                  <a:lnTo>
                    <a:pt x="20" y="1187"/>
                  </a:lnTo>
                  <a:lnTo>
                    <a:pt x="44" y="1076"/>
                  </a:lnTo>
                  <a:lnTo>
                    <a:pt x="78" y="969"/>
                  </a:lnTo>
                  <a:lnTo>
                    <a:pt x="120" y="865"/>
                  </a:lnTo>
                  <a:lnTo>
                    <a:pt x="170" y="766"/>
                  </a:lnTo>
                  <a:lnTo>
                    <a:pt x="229" y="670"/>
                  </a:lnTo>
                  <a:lnTo>
                    <a:pt x="295" y="580"/>
                  </a:lnTo>
                  <a:lnTo>
                    <a:pt x="368" y="494"/>
                  </a:lnTo>
                  <a:lnTo>
                    <a:pt x="448" y="415"/>
                  </a:lnTo>
                  <a:lnTo>
                    <a:pt x="534" y="341"/>
                  </a:lnTo>
                  <a:lnTo>
                    <a:pt x="626" y="273"/>
                  </a:lnTo>
                  <a:lnTo>
                    <a:pt x="724" y="212"/>
                  </a:lnTo>
                  <a:lnTo>
                    <a:pt x="827" y="158"/>
                  </a:lnTo>
                  <a:lnTo>
                    <a:pt x="934" y="111"/>
                  </a:lnTo>
                  <a:lnTo>
                    <a:pt x="1047" y="72"/>
                  </a:lnTo>
                  <a:lnTo>
                    <a:pt x="1162" y="41"/>
                  </a:lnTo>
                  <a:lnTo>
                    <a:pt x="1282" y="18"/>
                  </a:lnTo>
                  <a:lnTo>
                    <a:pt x="1405" y="4"/>
                  </a:lnTo>
                  <a:lnTo>
                    <a:pt x="1530" y="0"/>
                  </a:lnTo>
                  <a:lnTo>
                    <a:pt x="1656" y="4"/>
                  </a:lnTo>
                  <a:lnTo>
                    <a:pt x="1779" y="18"/>
                  </a:lnTo>
                  <a:lnTo>
                    <a:pt x="1898" y="41"/>
                  </a:lnTo>
                  <a:lnTo>
                    <a:pt x="2014" y="72"/>
                  </a:lnTo>
                  <a:lnTo>
                    <a:pt x="2126" y="111"/>
                  </a:lnTo>
                  <a:lnTo>
                    <a:pt x="2234" y="158"/>
                  </a:lnTo>
                  <a:lnTo>
                    <a:pt x="2337" y="212"/>
                  </a:lnTo>
                  <a:lnTo>
                    <a:pt x="2434" y="273"/>
                  </a:lnTo>
                  <a:lnTo>
                    <a:pt x="2527" y="341"/>
                  </a:lnTo>
                  <a:lnTo>
                    <a:pt x="2613" y="415"/>
                  </a:lnTo>
                  <a:lnTo>
                    <a:pt x="2693" y="494"/>
                  </a:lnTo>
                  <a:lnTo>
                    <a:pt x="2766" y="580"/>
                  </a:lnTo>
                  <a:lnTo>
                    <a:pt x="2832" y="670"/>
                  </a:lnTo>
                  <a:lnTo>
                    <a:pt x="2890" y="766"/>
                  </a:lnTo>
                  <a:lnTo>
                    <a:pt x="2941" y="865"/>
                  </a:lnTo>
                  <a:lnTo>
                    <a:pt x="2983" y="969"/>
                  </a:lnTo>
                  <a:lnTo>
                    <a:pt x="3017" y="1076"/>
                  </a:lnTo>
                  <a:lnTo>
                    <a:pt x="3041" y="1187"/>
                  </a:lnTo>
                  <a:lnTo>
                    <a:pt x="3056" y="1301"/>
                  </a:lnTo>
                  <a:lnTo>
                    <a:pt x="3061" y="1417"/>
                  </a:lnTo>
                  <a:lnTo>
                    <a:pt x="3056" y="1533"/>
                  </a:lnTo>
                  <a:lnTo>
                    <a:pt x="3041" y="1647"/>
                  </a:lnTo>
                  <a:lnTo>
                    <a:pt x="3017" y="1758"/>
                  </a:lnTo>
                  <a:lnTo>
                    <a:pt x="2983" y="1865"/>
                  </a:lnTo>
                  <a:lnTo>
                    <a:pt x="2941" y="1969"/>
                  </a:lnTo>
                  <a:lnTo>
                    <a:pt x="2890" y="2068"/>
                  </a:lnTo>
                  <a:lnTo>
                    <a:pt x="2832" y="2164"/>
                  </a:lnTo>
                  <a:lnTo>
                    <a:pt x="2766" y="2254"/>
                  </a:lnTo>
                  <a:lnTo>
                    <a:pt x="2693" y="2339"/>
                  </a:lnTo>
                  <a:lnTo>
                    <a:pt x="2613" y="2419"/>
                  </a:lnTo>
                  <a:lnTo>
                    <a:pt x="2527" y="2493"/>
                  </a:lnTo>
                  <a:lnTo>
                    <a:pt x="2434" y="2561"/>
                  </a:lnTo>
                  <a:lnTo>
                    <a:pt x="2337" y="2622"/>
                  </a:lnTo>
                  <a:lnTo>
                    <a:pt x="2234" y="2676"/>
                  </a:lnTo>
                  <a:lnTo>
                    <a:pt x="2126" y="2723"/>
                  </a:lnTo>
                  <a:lnTo>
                    <a:pt x="2014" y="2762"/>
                  </a:lnTo>
                  <a:lnTo>
                    <a:pt x="1898" y="2793"/>
                  </a:lnTo>
                  <a:lnTo>
                    <a:pt x="1779" y="2816"/>
                  </a:lnTo>
                  <a:lnTo>
                    <a:pt x="1656" y="2830"/>
                  </a:lnTo>
                  <a:lnTo>
                    <a:pt x="1530" y="2834"/>
                  </a:lnTo>
                  <a:lnTo>
                    <a:pt x="1405" y="2830"/>
                  </a:lnTo>
                  <a:lnTo>
                    <a:pt x="1282" y="2816"/>
                  </a:lnTo>
                  <a:lnTo>
                    <a:pt x="1162" y="2793"/>
                  </a:lnTo>
                  <a:lnTo>
                    <a:pt x="1047" y="2762"/>
                  </a:lnTo>
                  <a:lnTo>
                    <a:pt x="934" y="2723"/>
                  </a:lnTo>
                  <a:lnTo>
                    <a:pt x="827" y="2676"/>
                  </a:lnTo>
                  <a:lnTo>
                    <a:pt x="724" y="2622"/>
                  </a:lnTo>
                  <a:lnTo>
                    <a:pt x="626" y="2561"/>
                  </a:lnTo>
                  <a:lnTo>
                    <a:pt x="534" y="2493"/>
                  </a:lnTo>
                  <a:lnTo>
                    <a:pt x="448" y="2419"/>
                  </a:lnTo>
                  <a:lnTo>
                    <a:pt x="368" y="2339"/>
                  </a:lnTo>
                  <a:lnTo>
                    <a:pt x="295" y="2254"/>
                  </a:lnTo>
                  <a:lnTo>
                    <a:pt x="229" y="2164"/>
                  </a:lnTo>
                  <a:lnTo>
                    <a:pt x="170" y="2068"/>
                  </a:lnTo>
                  <a:lnTo>
                    <a:pt x="120" y="1969"/>
                  </a:lnTo>
                  <a:lnTo>
                    <a:pt x="78" y="1865"/>
                  </a:lnTo>
                  <a:lnTo>
                    <a:pt x="44" y="1758"/>
                  </a:lnTo>
                  <a:lnTo>
                    <a:pt x="20" y="1647"/>
                  </a:lnTo>
                  <a:lnTo>
                    <a:pt x="5" y="1533"/>
                  </a:lnTo>
                  <a:lnTo>
                    <a:pt x="0" y="141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7"/>
            <p:cNvSpPr/>
            <p:nvPr/>
          </p:nvSpPr>
          <p:spPr>
            <a:xfrm>
              <a:off x="6808680" y="3173400"/>
              <a:ext cx="1385640" cy="563400"/>
            </a:xfrm>
            <a:custGeom>
              <a:avLst/>
              <a:gdLst>
                <a:gd name="textAreaLeft" fmla="*/ 0 w 1385640"/>
                <a:gd name="textAreaRight" fmla="*/ 1386000 w 138564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154" h="875">
                  <a:moveTo>
                    <a:pt x="2113" y="8"/>
                  </a:moveTo>
                  <a:lnTo>
                    <a:pt x="2134" y="63"/>
                  </a:lnTo>
                  <a:lnTo>
                    <a:pt x="2147" y="117"/>
                  </a:lnTo>
                  <a:lnTo>
                    <a:pt x="2154" y="171"/>
                  </a:lnTo>
                  <a:lnTo>
                    <a:pt x="2153" y="225"/>
                  </a:lnTo>
                  <a:lnTo>
                    <a:pt x="2146" y="278"/>
                  </a:lnTo>
                  <a:lnTo>
                    <a:pt x="2132" y="330"/>
                  </a:lnTo>
                  <a:lnTo>
                    <a:pt x="2112" y="381"/>
                  </a:lnTo>
                  <a:lnTo>
                    <a:pt x="2087" y="431"/>
                  </a:lnTo>
                  <a:lnTo>
                    <a:pt x="2055" y="479"/>
                  </a:lnTo>
                  <a:lnTo>
                    <a:pt x="2017" y="526"/>
                  </a:lnTo>
                  <a:lnTo>
                    <a:pt x="1974" y="570"/>
                  </a:lnTo>
                  <a:lnTo>
                    <a:pt x="1926" y="613"/>
                  </a:lnTo>
                  <a:lnTo>
                    <a:pt x="1872" y="653"/>
                  </a:lnTo>
                  <a:lnTo>
                    <a:pt x="1814" y="690"/>
                  </a:lnTo>
                  <a:lnTo>
                    <a:pt x="1750" y="725"/>
                  </a:lnTo>
                  <a:lnTo>
                    <a:pt x="1683" y="756"/>
                  </a:lnTo>
                  <a:lnTo>
                    <a:pt x="1611" y="785"/>
                  </a:lnTo>
                  <a:lnTo>
                    <a:pt x="1534" y="810"/>
                  </a:lnTo>
                  <a:lnTo>
                    <a:pt x="1454" y="831"/>
                  </a:lnTo>
                  <a:lnTo>
                    <a:pt x="1370" y="848"/>
                  </a:lnTo>
                  <a:lnTo>
                    <a:pt x="1284" y="861"/>
                  </a:lnTo>
                  <a:lnTo>
                    <a:pt x="1198" y="870"/>
                  </a:lnTo>
                  <a:lnTo>
                    <a:pt x="1112" y="874"/>
                  </a:lnTo>
                  <a:lnTo>
                    <a:pt x="1027" y="873"/>
                  </a:lnTo>
                  <a:lnTo>
                    <a:pt x="943" y="869"/>
                  </a:lnTo>
                  <a:lnTo>
                    <a:pt x="861" y="860"/>
                  </a:lnTo>
                  <a:lnTo>
                    <a:pt x="780" y="848"/>
                  </a:lnTo>
                  <a:lnTo>
                    <a:pt x="701" y="831"/>
                  </a:lnTo>
                  <a:lnTo>
                    <a:pt x="625" y="811"/>
                  </a:lnTo>
                  <a:lnTo>
                    <a:pt x="551" y="787"/>
                  </a:lnTo>
                  <a:lnTo>
                    <a:pt x="480" y="760"/>
                  </a:lnTo>
                  <a:lnTo>
                    <a:pt x="413" y="730"/>
                  </a:lnTo>
                  <a:lnTo>
                    <a:pt x="350" y="696"/>
                  </a:lnTo>
                  <a:lnTo>
                    <a:pt x="291" y="659"/>
                  </a:lnTo>
                  <a:lnTo>
                    <a:pt x="236" y="619"/>
                  </a:lnTo>
                  <a:lnTo>
                    <a:pt x="186" y="576"/>
                  </a:lnTo>
                  <a:lnTo>
                    <a:pt x="141" y="531"/>
                  </a:lnTo>
                  <a:lnTo>
                    <a:pt x="101" y="483"/>
                  </a:lnTo>
                  <a:lnTo>
                    <a:pt x="68" y="432"/>
                  </a:lnTo>
                  <a:lnTo>
                    <a:pt x="40" y="379"/>
                  </a:lnTo>
                  <a:lnTo>
                    <a:pt x="32" y="360"/>
                  </a:lnTo>
                  <a:lnTo>
                    <a:pt x="25" y="341"/>
                  </a:lnTo>
                  <a:lnTo>
                    <a:pt x="19" y="322"/>
                  </a:lnTo>
                  <a:lnTo>
                    <a:pt x="13" y="303"/>
                  </a:lnTo>
                  <a:lnTo>
                    <a:pt x="9" y="284"/>
                  </a:lnTo>
                  <a:lnTo>
                    <a:pt x="5" y="264"/>
                  </a:lnTo>
                  <a:lnTo>
                    <a:pt x="3" y="245"/>
                  </a:lnTo>
                  <a:lnTo>
                    <a:pt x="1" y="226"/>
                  </a:lnTo>
                  <a:lnTo>
                    <a:pt x="0" y="207"/>
                  </a:lnTo>
                  <a:lnTo>
                    <a:pt x="0" y="187"/>
                  </a:lnTo>
                  <a:lnTo>
                    <a:pt x="0" y="168"/>
                  </a:lnTo>
                  <a:lnTo>
                    <a:pt x="2" y="149"/>
                  </a:lnTo>
                  <a:lnTo>
                    <a:pt x="4" y="129"/>
                  </a:lnTo>
                  <a:lnTo>
                    <a:pt x="8" y="110"/>
                  </a:lnTo>
                  <a:lnTo>
                    <a:pt x="12" y="91"/>
                  </a:lnTo>
                  <a:lnTo>
                    <a:pt x="17" y="72"/>
                  </a:lnTo>
                  <a:lnTo>
                    <a:pt x="23" y="53"/>
                  </a:lnTo>
                  <a:lnTo>
                    <a:pt x="30" y="34"/>
                  </a:lnTo>
                  <a:lnTo>
                    <a:pt x="37" y="15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8"/>
            <p:cNvSpPr/>
            <p:nvPr/>
          </p:nvSpPr>
          <p:spPr>
            <a:xfrm>
              <a:off x="6837120" y="3173400"/>
              <a:ext cx="1331640" cy="5760"/>
            </a:xfrm>
            <a:custGeom>
              <a:avLst/>
              <a:gdLst>
                <a:gd name="textAreaLeft" fmla="*/ 0 w 1331640"/>
                <a:gd name="textAreaRight" fmla="*/ 1332000 w 13316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070" h="9">
                  <a:moveTo>
                    <a:pt x="0" y="0"/>
                  </a:moveTo>
                  <a:lnTo>
                    <a:pt x="2069" y="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28"/>
          <p:cNvSpPr/>
          <p:nvPr/>
        </p:nvSpPr>
        <p:spPr>
          <a:xfrm>
            <a:off x="539640" y="4508640"/>
            <a:ext cx="20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9"/>
          <p:cNvSpPr/>
          <p:nvPr/>
        </p:nvSpPr>
        <p:spPr>
          <a:xfrm>
            <a:off x="6012000" y="4508640"/>
            <a:ext cx="29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app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i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0"/>
          <p:cNvSpPr/>
          <p:nvPr/>
        </p:nvSpPr>
        <p:spPr>
          <a:xfrm>
            <a:off x="3132000" y="450864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app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1"/>
          <p:cNvSpPr/>
          <p:nvPr/>
        </p:nvSpPr>
        <p:spPr>
          <a:xfrm>
            <a:off x="1116000" y="2781360"/>
            <a:ext cx="21600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1692360" y="2781360"/>
            <a:ext cx="21564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3"/>
          <p:cNvSpPr/>
          <p:nvPr/>
        </p:nvSpPr>
        <p:spPr>
          <a:xfrm>
            <a:off x="4067280" y="2852640"/>
            <a:ext cx="21744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4643280" y="2852640"/>
            <a:ext cx="21600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5"/>
          <p:cNvSpPr/>
          <p:nvPr/>
        </p:nvSpPr>
        <p:spPr>
          <a:xfrm>
            <a:off x="7740720" y="2852640"/>
            <a:ext cx="21600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6"/>
          <p:cNvSpPr/>
          <p:nvPr/>
        </p:nvSpPr>
        <p:spPr>
          <a:xfrm>
            <a:off x="7093080" y="2852640"/>
            <a:ext cx="215640" cy="144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826920" y="1700280"/>
            <a:ext cx="1825920" cy="2401920"/>
            <a:chOff x="826920" y="1700280"/>
            <a:chExt cx="1825920" cy="2401920"/>
          </a:xfrm>
        </p:grpSpPr>
        <p:sp>
          <p:nvSpPr>
            <p:cNvPr id="185" name="Freeform 3"/>
            <p:cNvSpPr/>
            <p:nvPr/>
          </p:nvSpPr>
          <p:spPr>
            <a:xfrm>
              <a:off x="2348280" y="3799440"/>
              <a:ext cx="304560" cy="302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73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"/>
            <p:cNvSpPr/>
            <p:nvPr/>
          </p:nvSpPr>
          <p:spPr>
            <a:xfrm>
              <a:off x="826920" y="1700280"/>
              <a:ext cx="1825920" cy="2401920"/>
            </a:xfrm>
            <a:custGeom>
              <a:avLst/>
              <a:gdLst>
                <a:gd name="textAreaLeft" fmla="*/ 0 w 1825920"/>
                <a:gd name="textAreaRight" fmla="*/ 1826280 w 1825920"/>
                <a:gd name="textAreaTop" fmla="*/ 0 h 2401920"/>
                <a:gd name="textAreaBottom" fmla="*/ 2402280 h 24019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3635280" y="1700280"/>
            <a:ext cx="1825560" cy="2401920"/>
            <a:chOff x="3635280" y="1700280"/>
            <a:chExt cx="1825560" cy="2401920"/>
          </a:xfrm>
        </p:grpSpPr>
        <p:sp>
          <p:nvSpPr>
            <p:cNvPr id="188" name="Freeform 6"/>
            <p:cNvSpPr/>
            <p:nvPr/>
          </p:nvSpPr>
          <p:spPr>
            <a:xfrm>
              <a:off x="5156280" y="3799440"/>
              <a:ext cx="304560" cy="302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73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"/>
            <p:cNvSpPr/>
            <p:nvPr/>
          </p:nvSpPr>
          <p:spPr>
            <a:xfrm>
              <a:off x="3635280" y="1700280"/>
              <a:ext cx="1825560" cy="240192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2401920"/>
                <a:gd name="textAreaBottom" fmla="*/ 2402280 h 24019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6372360" y="1700280"/>
            <a:ext cx="1825560" cy="2401920"/>
            <a:chOff x="6372360" y="1700280"/>
            <a:chExt cx="1825560" cy="2401920"/>
          </a:xfrm>
        </p:grpSpPr>
        <p:sp>
          <p:nvSpPr>
            <p:cNvPr id="191" name="Freeform 9"/>
            <p:cNvSpPr/>
            <p:nvPr/>
          </p:nvSpPr>
          <p:spPr>
            <a:xfrm>
              <a:off x="7893360" y="3799440"/>
              <a:ext cx="304560" cy="302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73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6372360" y="1700280"/>
              <a:ext cx="1825560" cy="240192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2401920"/>
                <a:gd name="textAreaBottom" fmla="*/ 2402280 h 24019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10"/>
          <p:cNvSpPr/>
          <p:nvPr/>
        </p:nvSpPr>
        <p:spPr>
          <a:xfrm>
            <a:off x="900000" y="465300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3419640" y="465300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wor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6372360" y="465300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wor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40328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709308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111600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6659640" y="191628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392436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es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1332000" y="256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4211640" y="256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694836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TextBox 22"/>
          <p:cNvGrpSpPr/>
          <p:nvPr/>
        </p:nvGrpSpPr>
        <p:grpSpPr>
          <a:xfrm>
            <a:off x="6845400" y="3328920"/>
            <a:ext cx="804600" cy="725400"/>
            <a:chOff x="6845400" y="3328920"/>
            <a:chExt cx="804600" cy="725400"/>
          </a:xfrm>
        </p:grpSpPr>
        <p:pic>
          <p:nvPicPr>
            <p:cNvPr id="206" name="TextBox 22" descr=""/>
            <p:cNvPicPr/>
            <p:nvPr/>
          </p:nvPicPr>
          <p:blipFill>
            <a:blip r:embed="rId1"/>
            <a:stretch/>
          </p:blipFill>
          <p:spPr>
            <a:xfrm>
              <a:off x="6845400" y="332892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 rot="19551000">
              <a:off x="6923880" y="35064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0a0"/>
                  </a:solidFill>
                  <a:latin typeface="Arial"/>
                </a:rPr>
                <a:t>F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500" fill="hold"/>
                                        <p:tgtEl>
                                          <p:spTgt spid="19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257560" cy="158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174312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6227640" y="2060640"/>
            <a:ext cx="2105280" cy="2085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348000" y="443700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ott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1258920" y="443700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084720" y="4437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hott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1229040" cy="1771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3132000" y="2133720"/>
            <a:ext cx="2276640" cy="195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6443640" y="2060640"/>
            <a:ext cx="1866960" cy="2276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276720" y="450864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fatt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012000" y="45086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fatt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826920" y="450864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f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123840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3059280" y="2276640"/>
            <a:ext cx="2381040" cy="140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5905440" y="2349360"/>
            <a:ext cx="3238560" cy="1419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3640" y="458136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cold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6156360" y="458136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cold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84360" y="458136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828720" cy="2162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828720" cy="2523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948360" y="1484280"/>
            <a:ext cx="92412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419640" y="4653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tall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6372360" y="465300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tall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826920" y="465300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t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129528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1104840" cy="16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7020000" y="2421000"/>
            <a:ext cx="914400" cy="1400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3203640" y="44370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small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12000" y="4437000"/>
            <a:ext cx="28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small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84360" y="4437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sm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1876680" cy="53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2447640" cy="51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3276720" cy="438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3203640" y="4437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long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6084720" y="4437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long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611280" y="44370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lo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15244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3059280" y="2205000"/>
            <a:ext cx="3047760" cy="2162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443640" y="1557360"/>
            <a:ext cx="2200320" cy="2685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3203640" y="4581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igg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6156360" y="4581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igg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00000" y="458136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bi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826920" y="1341360"/>
            <a:ext cx="1841760" cy="2416320"/>
            <a:chOff x="826920" y="1341360"/>
            <a:chExt cx="1841760" cy="2416320"/>
          </a:xfrm>
        </p:grpSpPr>
        <p:sp>
          <p:nvSpPr>
            <p:cNvPr id="86" name="Freeform 3"/>
            <p:cNvSpPr/>
            <p:nvPr/>
          </p:nvSpPr>
          <p:spPr>
            <a:xfrm>
              <a:off x="2361960" y="3453120"/>
              <a:ext cx="306360" cy="3045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72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826920" y="1341360"/>
              <a:ext cx="1841760" cy="2416320"/>
            </a:xfrm>
            <a:custGeom>
              <a:avLst/>
              <a:gdLst>
                <a:gd name="textAreaLeft" fmla="*/ 0 w 1841760"/>
                <a:gd name="textAreaRight" fmla="*/ 1842120 w 1841760"/>
                <a:gd name="textAreaTop" fmla="*/ 0 h 2416320"/>
                <a:gd name="textAreaBottom" fmla="*/ 2416680 h 24163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2300400" y="170712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2300400" y="170712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7"/>
            <p:cNvSpPr/>
            <p:nvPr/>
          </p:nvSpPr>
          <p:spPr>
            <a:xfrm>
              <a:off x="2226960" y="1744200"/>
              <a:ext cx="183600" cy="18252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2410920" y="1560600"/>
              <a:ext cx="184320" cy="366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6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300400" y="309888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2300400" y="309888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2226960" y="3135960"/>
              <a:ext cx="183600" cy="18252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2410920" y="2952360"/>
              <a:ext cx="184320" cy="366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"/>
            <p:cNvSpPr/>
            <p:nvPr/>
          </p:nvSpPr>
          <p:spPr>
            <a:xfrm>
              <a:off x="2300400" y="265932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4"/>
            <p:cNvSpPr/>
            <p:nvPr/>
          </p:nvSpPr>
          <p:spPr>
            <a:xfrm>
              <a:off x="2300400" y="265932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5"/>
            <p:cNvSpPr/>
            <p:nvPr/>
          </p:nvSpPr>
          <p:spPr>
            <a:xfrm>
              <a:off x="2300400" y="2220120"/>
              <a:ext cx="220680" cy="2192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2300400" y="2220120"/>
              <a:ext cx="220680" cy="219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2325240" y="2147040"/>
              <a:ext cx="195840" cy="2923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302" h="453">
                  <a:moveTo>
                    <a:pt x="0" y="0"/>
                  </a:moveTo>
                  <a:lnTo>
                    <a:pt x="302" y="45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2226960" y="2147040"/>
              <a:ext cx="294120" cy="2923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453" h="453">
                  <a:moveTo>
                    <a:pt x="0" y="453"/>
                  </a:moveTo>
                  <a:lnTo>
                    <a:pt x="45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2325240" y="2659320"/>
              <a:ext cx="195840" cy="2930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02" h="454">
                  <a:moveTo>
                    <a:pt x="0" y="0"/>
                  </a:moveTo>
                  <a:lnTo>
                    <a:pt x="302" y="45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2226960" y="2659320"/>
              <a:ext cx="294120" cy="29304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453"/>
                  </a:moveTo>
                  <a:lnTo>
                    <a:pt x="45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708360" y="1341360"/>
            <a:ext cx="1841400" cy="2416320"/>
            <a:chOff x="3708360" y="1341360"/>
            <a:chExt cx="1841400" cy="2416320"/>
          </a:xfrm>
        </p:grpSpPr>
        <p:sp>
          <p:nvSpPr>
            <p:cNvPr id="105" name="Freeform 22"/>
            <p:cNvSpPr/>
            <p:nvPr/>
          </p:nvSpPr>
          <p:spPr>
            <a:xfrm>
              <a:off x="5243400" y="3453120"/>
              <a:ext cx="306360" cy="3045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472" h="472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3708360" y="1341360"/>
              <a:ext cx="1841400" cy="2416320"/>
            </a:xfrm>
            <a:custGeom>
              <a:avLst/>
              <a:gdLst>
                <a:gd name="textAreaLeft" fmla="*/ 0 w 1841400"/>
                <a:gd name="textAreaRight" fmla="*/ 1841760 w 1841400"/>
                <a:gd name="textAreaTop" fmla="*/ 0 h 2416320"/>
                <a:gd name="textAreaBottom" fmla="*/ 2416680 h 24163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4"/>
            <p:cNvSpPr/>
            <p:nvPr/>
          </p:nvSpPr>
          <p:spPr>
            <a:xfrm>
              <a:off x="5181480" y="170712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5181480" y="170712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5108040" y="1744200"/>
              <a:ext cx="183600" cy="18252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7"/>
            <p:cNvSpPr/>
            <p:nvPr/>
          </p:nvSpPr>
          <p:spPr>
            <a:xfrm>
              <a:off x="5292000" y="1560600"/>
              <a:ext cx="184320" cy="366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6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5181480" y="265932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5181480" y="265932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108040" y="2696040"/>
              <a:ext cx="183600" cy="18324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83" h="284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5292000" y="2513520"/>
              <a:ext cx="184320" cy="3657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2"/>
            <p:cNvSpPr/>
            <p:nvPr/>
          </p:nvSpPr>
          <p:spPr>
            <a:xfrm>
              <a:off x="5181480" y="309888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5181480" y="309888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5108040" y="3135960"/>
              <a:ext cx="183600" cy="18252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5"/>
            <p:cNvSpPr/>
            <p:nvPr/>
          </p:nvSpPr>
          <p:spPr>
            <a:xfrm>
              <a:off x="5292000" y="2952360"/>
              <a:ext cx="184320" cy="366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5181480" y="2147040"/>
              <a:ext cx="220680" cy="21960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181480" y="2147040"/>
              <a:ext cx="220680" cy="219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>
              <a:off x="5205960" y="2073600"/>
              <a:ext cx="196200" cy="2930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02" h="454">
                  <a:moveTo>
                    <a:pt x="0" y="0"/>
                  </a:moveTo>
                  <a:lnTo>
                    <a:pt x="302" y="45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>
              <a:off x="5108040" y="2073600"/>
              <a:ext cx="294120" cy="29304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453" h="454">
                  <a:moveTo>
                    <a:pt x="0" y="453"/>
                  </a:moveTo>
                  <a:lnTo>
                    <a:pt x="45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6516720" y="1341360"/>
            <a:ext cx="1825560" cy="2401920"/>
            <a:chOff x="6516720" y="1341360"/>
            <a:chExt cx="1825560" cy="2401920"/>
          </a:xfrm>
        </p:grpSpPr>
        <p:sp>
          <p:nvSpPr>
            <p:cNvPr id="124" name="Freeform 41"/>
            <p:cNvSpPr/>
            <p:nvPr/>
          </p:nvSpPr>
          <p:spPr>
            <a:xfrm>
              <a:off x="8038440" y="3439800"/>
              <a:ext cx="303840" cy="303480"/>
            </a:xfrm>
            <a:custGeom>
              <a:avLst/>
              <a:gdLst>
                <a:gd name="textAreaLeft" fmla="*/ 0 w 303840"/>
                <a:gd name="textAreaRight" fmla="*/ 304200 w 3038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472" h="473">
                  <a:moveTo>
                    <a:pt x="0" y="472"/>
                  </a:moveTo>
                  <a:lnTo>
                    <a:pt x="0" y="472"/>
                  </a:lnTo>
                  <a:lnTo>
                    <a:pt x="472" y="0"/>
                  </a:lnTo>
                  <a:lnTo>
                    <a:pt x="94" y="94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>
              <a:off x="6516720" y="1341360"/>
              <a:ext cx="1825560" cy="2401920"/>
            </a:xfrm>
            <a:custGeom>
              <a:avLst/>
              <a:gdLst>
                <a:gd name="textAreaLeft" fmla="*/ 0 w 1825560"/>
                <a:gd name="textAreaRight" fmla="*/ 1825920 w 1825560"/>
                <a:gd name="textAreaTop" fmla="*/ 0 h 2401920"/>
                <a:gd name="textAreaBottom" fmla="*/ 2402280 h 2401920"/>
              </a:gdLst>
              <a:ahLst/>
              <a:rect l="textAreaLeft" t="textAreaTop" r="textAreaRight" b="textAreaBottom"/>
              <a:pathLst>
                <a:path w="2835" h="3742">
                  <a:moveTo>
                    <a:pt x="2362" y="3742"/>
                  </a:moveTo>
                  <a:lnTo>
                    <a:pt x="2456" y="3364"/>
                  </a:lnTo>
                  <a:lnTo>
                    <a:pt x="2834" y="3269"/>
                  </a:lnTo>
                  <a:lnTo>
                    <a:pt x="2362" y="3742"/>
                  </a:lnTo>
                  <a:lnTo>
                    <a:pt x="0" y="3742"/>
                  </a:lnTo>
                  <a:lnTo>
                    <a:pt x="0" y="0"/>
                  </a:lnTo>
                  <a:lnTo>
                    <a:pt x="2834" y="0"/>
                  </a:lnTo>
                  <a:lnTo>
                    <a:pt x="2834" y="3269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3"/>
            <p:cNvSpPr/>
            <p:nvPr/>
          </p:nvSpPr>
          <p:spPr>
            <a:xfrm>
              <a:off x="7977240" y="1704960"/>
              <a:ext cx="218880" cy="21816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4"/>
            <p:cNvSpPr/>
            <p:nvPr/>
          </p:nvSpPr>
          <p:spPr>
            <a:xfrm>
              <a:off x="7977240" y="1704960"/>
              <a:ext cx="218880" cy="21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5"/>
            <p:cNvSpPr/>
            <p:nvPr/>
          </p:nvSpPr>
          <p:spPr>
            <a:xfrm>
              <a:off x="7904520" y="17409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83" h="284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>
              <a:off x="8086680" y="1559520"/>
              <a:ext cx="182880" cy="3636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6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7"/>
            <p:cNvSpPr/>
            <p:nvPr/>
          </p:nvSpPr>
          <p:spPr>
            <a:xfrm>
              <a:off x="7977240" y="2214360"/>
              <a:ext cx="218880" cy="21816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8"/>
            <p:cNvSpPr/>
            <p:nvPr/>
          </p:nvSpPr>
          <p:spPr>
            <a:xfrm>
              <a:off x="7977240" y="2214360"/>
              <a:ext cx="218880" cy="21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9"/>
            <p:cNvSpPr/>
            <p:nvPr/>
          </p:nvSpPr>
          <p:spPr>
            <a:xfrm>
              <a:off x="7904520" y="2250720"/>
              <a:ext cx="182160" cy="1814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0"/>
            <p:cNvSpPr/>
            <p:nvPr/>
          </p:nvSpPr>
          <p:spPr>
            <a:xfrm>
              <a:off x="8086680" y="2068560"/>
              <a:ext cx="182880" cy="3636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6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1"/>
            <p:cNvSpPr/>
            <p:nvPr/>
          </p:nvSpPr>
          <p:spPr>
            <a:xfrm>
              <a:off x="7977240" y="2651400"/>
              <a:ext cx="218880" cy="21816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2"/>
            <p:cNvSpPr/>
            <p:nvPr/>
          </p:nvSpPr>
          <p:spPr>
            <a:xfrm>
              <a:off x="7977240" y="2651400"/>
              <a:ext cx="218880" cy="21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3"/>
            <p:cNvSpPr/>
            <p:nvPr/>
          </p:nvSpPr>
          <p:spPr>
            <a:xfrm>
              <a:off x="7904520" y="268740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83" h="284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4"/>
            <p:cNvSpPr/>
            <p:nvPr/>
          </p:nvSpPr>
          <p:spPr>
            <a:xfrm>
              <a:off x="8086680" y="2505600"/>
              <a:ext cx="182880" cy="3636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5"/>
            <p:cNvSpPr/>
            <p:nvPr/>
          </p:nvSpPr>
          <p:spPr>
            <a:xfrm>
              <a:off x="7977240" y="3087720"/>
              <a:ext cx="218880" cy="21816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6"/>
            <p:cNvSpPr/>
            <p:nvPr/>
          </p:nvSpPr>
          <p:spPr>
            <a:xfrm>
              <a:off x="7977240" y="3087720"/>
              <a:ext cx="218880" cy="21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7"/>
            <p:cNvSpPr/>
            <p:nvPr/>
          </p:nvSpPr>
          <p:spPr>
            <a:xfrm>
              <a:off x="7904520" y="3124440"/>
              <a:ext cx="182160" cy="1814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83" h="283">
                  <a:moveTo>
                    <a:pt x="0" y="0"/>
                  </a:moveTo>
                  <a:lnTo>
                    <a:pt x="283" y="283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8"/>
            <p:cNvSpPr/>
            <p:nvPr/>
          </p:nvSpPr>
          <p:spPr>
            <a:xfrm>
              <a:off x="8086680" y="2941920"/>
              <a:ext cx="182880" cy="3639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284" h="567">
                  <a:moveTo>
                    <a:pt x="0" y="567"/>
                  </a:moveTo>
                  <a:lnTo>
                    <a:pt x="283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58"/>
          <p:cNvSpPr/>
          <p:nvPr/>
        </p:nvSpPr>
        <p:spPr>
          <a:xfrm>
            <a:off x="3492360" y="4508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be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9"/>
          <p:cNvSpPr/>
          <p:nvPr/>
        </p:nvSpPr>
        <p:spPr>
          <a:xfrm>
            <a:off x="6588000" y="4508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b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0"/>
          <p:cNvSpPr/>
          <p:nvPr/>
        </p:nvSpPr>
        <p:spPr>
          <a:xfrm>
            <a:off x="971640" y="4508640"/>
            <a:ext cx="180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g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TextBox 61" descr=""/>
          <p:cNvPicPr/>
          <p:nvPr/>
        </p:nvPicPr>
        <p:blipFill>
          <a:blip r:embed="rId1"/>
          <a:stretch/>
        </p:blipFill>
        <p:spPr>
          <a:xfrm>
            <a:off x="1401840" y="2060640"/>
            <a:ext cx="506160" cy="58572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62" descr=""/>
          <p:cNvPicPr/>
          <p:nvPr/>
        </p:nvPicPr>
        <p:blipFill>
          <a:blip r:embed="rId2"/>
          <a:stretch/>
        </p:blipFill>
        <p:spPr>
          <a:xfrm>
            <a:off x="4286160" y="2060640"/>
            <a:ext cx="719280" cy="58572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63" descr=""/>
          <p:cNvPicPr/>
          <p:nvPr/>
        </p:nvPicPr>
        <p:blipFill>
          <a:blip r:embed="rId3"/>
          <a:stretch/>
        </p:blipFill>
        <p:spPr>
          <a:xfrm>
            <a:off x="7162920" y="2133720"/>
            <a:ext cx="5061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4:14:48Z</dcterms:created>
  <dc:creator>Win7</dc:creator>
  <dc:description/>
  <dc:language>en-US</dc:language>
  <cp:lastModifiedBy>joel prenovault</cp:lastModifiedBy>
  <dcterms:modified xsi:type="dcterms:W3CDTF">2013-10-02T16:27:37Z</dcterms:modified>
  <cp:revision>21</cp:revision>
  <dc:subject/>
  <dc:title>Slide 1</dc:title>
</cp:coreProperties>
</file>